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37.jpeg" ContentType="image/jpeg"/>
  <Override PartName="/ppt/media/image27.jpeg" ContentType="image/jpeg"/>
  <Override PartName="/ppt/media/image13.wmf" ContentType="image/x-wmf"/>
  <Override PartName="/ppt/media/image26.wmf" ContentType="image/x-wmf"/>
  <Override PartName="/ppt/media/image24.wmf" ContentType="image/x-wmf"/>
  <Override PartName="/ppt/media/image25.wmf" ContentType="image/x-wmf"/>
  <Override PartName="/ppt/media/image2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2.wmf" ContentType="image/x-wmf"/>
  <Override PartName="/ppt/media/image8.png" ContentType="image/png"/>
  <Override PartName="/ppt/media/image39.jpeg" ContentType="image/jpeg"/>
  <Override PartName="/ppt/media/image4.wmf" ContentType="image/x-wmf"/>
  <Override PartName="/ppt/media/image9.png" ContentType="image/png"/>
  <Override PartName="/ppt/media/image34.png" ContentType="image/png"/>
  <Override PartName="/ppt/media/image10.wmf" ContentType="image/x-wmf"/>
  <Override PartName="/ppt/media/image33.png" ContentType="image/png"/>
  <Override PartName="/ppt/media/image3.png" ContentType="image/png"/>
  <Override PartName="/ppt/media/image11.wmf" ContentType="image/x-wmf"/>
  <Override PartName="/ppt/media/image35.png" ContentType="image/png"/>
  <Override PartName="/ppt/media/image5.png" ContentType="image/png"/>
  <Override PartName="/ppt/media/image40.wmf" ContentType="image/x-wmf"/>
  <Override PartName="/ppt/media/image38.jpeg" ContentType="image/jpeg"/>
  <Override PartName="/ppt/media/image7.jpeg" ContentType="image/jpeg"/>
  <Override PartName="/ppt/media/image41.png" ContentType="image/png"/>
  <Override PartName="/ppt/media/image2.png" ContentType="image/png"/>
  <Override PartName="/ppt/media/image32.png" ContentType="image/png"/>
  <Override PartName="/ppt/media/image36.png" ContentType="image/png"/>
  <Override PartName="/ppt/media/image6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8.jpeg" ContentType="image/jpeg"/>
  <Override PartName="/ppt/media/image15.png" ContentType="image/png"/>
  <Override PartName="/ppt/media/image19.jpeg" ContentType="image/jpeg"/>
  <Override PartName="/ppt/media/image31.png" ContentType="image/png"/>
  <Override PartName="/ppt/media/image29.wmf" ContentType="image/x-wmf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5" y="0"/>
                </a:moveTo>
                <a:arcTo wR="5" hR="5" stAng="16200000" swAng="-5400000"/>
                <a:lnTo>
                  <a:pt x="0" y="31542"/>
                </a:lnTo>
                <a:arcTo wR="5" hR="5" stAng="10800000" swAng="-5400000"/>
                <a:lnTo>
                  <a:pt x="21595" y="3154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5" y="0"/>
                </a:moveTo>
                <a:arcTo wR="5" hR="5" stAng="16200000" swAng="-5400000"/>
                <a:lnTo>
                  <a:pt x="0" y="31542"/>
                </a:lnTo>
                <a:arcTo wR="5" hR="5" stAng="10800000" swAng="-5400000"/>
                <a:lnTo>
                  <a:pt x="21595" y="3154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84984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3849480" y="9430920"/>
            <a:ext cx="294300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53B1D-B9ED-498B-A802-9191784BF0C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1A780-F48B-4296-8780-2447A54E06D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65E54-83C6-4CCC-A83D-9AD00CFA959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0C7AF-CF48-468F-80C2-97C62F84F78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63793-9385-4814-870C-C6BCC3BC190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84AF8-38CC-42D2-B7CC-9C23A9079FE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0BD6B-52BA-491E-A2FA-FB5E3BF20B8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E3877-323B-48EE-AF99-27A0C10E2B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2621E-ED84-4411-B47E-BCCA681F24B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6360D-59A2-4DAB-A047-143957F9031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71681-721B-4166-A6CE-6CF574B85C6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A582E-C996-47F0-AA33-3D2491DD203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DE326-B6D0-4E54-A765-94BD101043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602CC-A150-4C01-86E6-7C82280D977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DEC4B-CFD3-46D5-964A-E1D11DADD74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9EB12-48E9-4576-AF50-E0C36BE687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C43ED-39A3-497D-B45B-BC7F0C04C15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28C95-60E5-4887-83D9-8A0B6EA1543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CC0E6-3B60-4345-8E06-E33CE2EA6C1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2F7F4-C218-4CB1-88B5-F7736EAABB4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довой отчет об исполне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11AA0-1328-4234-8A81-B6089361505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EB36D-40C7-4AC4-8CBB-141FD908AF8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B9B79-142D-4959-B1CF-EA14CCEDB01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DB9D3-E098-4D13-9E6F-9AA5052A883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2E312-2AFE-4043-9F4D-6995C34705C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3B72B-0063-40D3-BA02-FB3F6A0D16C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3849840" y="9431280"/>
            <a:ext cx="2943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0000"/>
                <a:tab algn="l" pos="21607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C6CEA-F116-404F-8F73-2D1A8574417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4984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284DA-7E1D-41FA-9E55-2542C037DCC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EE6E-F905-4A83-99B2-8D0F706A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B28B-0198-4D9B-BCA9-3B38D068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762F-3CC3-4CA4-8279-7C688D26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142-90F4-433E-A4D1-6A9D757E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5692-874A-4CA3-84E7-17B61E3C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981C-86F4-44A0-BD38-31FDBADC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438E-1575-4F01-B8C6-32FED60A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5213-6DD2-4C92-ABCC-053C9849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932E-B45D-4E63-80B7-C45CCF3F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42E5-E985-4259-B028-24536128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43DD-305E-4F46-AF56-ED4371C0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1EE-5847-4275-8992-2239E309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A95F-1155-4BC8-89AE-BB646B6C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5FB7-A2CA-4C8D-8ABD-C12D9652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295A-F7FE-4F05-8A99-2427BDEA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2987-7256-4D98-ACCE-F55A71E9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6289-AD84-4E68-8928-E241E71E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165-92AC-41D4-A9D2-68597135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C14-2C59-42F5-AE8C-A034AF26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D18-CFE8-471C-9BB5-857FD618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1F5-858D-494C-A633-F99EE06A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CDD-8CE9-40AA-A1FE-6AE9398A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C858-CA21-4D64-9520-6697259C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96E9-393E-4101-A90F-2912427E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B425B6-0FCC-4D99-AFDA-DDE4EC1268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7F9163-AE4E-489B-B0ED-B92305DC507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8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jpeg"/><Relationship Id="rId9" Type="http://schemas.openxmlformats.org/officeDocument/2006/relationships/image" Target="../media/image2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package" Target="../embeddings/oleObject1.xlsx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pn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b48e"/>
            </a:gs>
            <a:gs pos="100000">
              <a:srgbClr val="effa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0" y="266688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82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аргашинский райо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spcBef>
                <a:spcPts val="82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95959"/>
                </a:solidFill>
                <a:latin typeface="Verdana"/>
              </a:rPr>
              <a:t>Отчет об исполнени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595959"/>
                </a:solidFill>
                <a:latin typeface="Verdana"/>
              </a:rPr>
              <a:t>бюджета</a:t>
            </a:r>
            <a:r>
              <a:rPr b="1" lang="ru-RU" sz="3600" spc="-1" strike="noStrike">
                <a:solidFill>
                  <a:srgbClr val="595959"/>
                </a:solidFill>
                <a:latin typeface="Arial"/>
              </a:rPr>
              <a:t> Варгашинского района</a:t>
            </a:r>
            <a:r>
              <a:rPr b="1" lang="ru-RU" sz="3600" spc="-1" strike="noStrike">
                <a:solidFill>
                  <a:srgbClr val="595959"/>
                </a:solidFill>
                <a:latin typeface="Verdana"/>
              </a:rPr>
              <a:t> за 201</a:t>
            </a:r>
            <a:r>
              <a:rPr b="1" lang="ru-RU" sz="3600" spc="-1" strike="noStrike">
                <a:solidFill>
                  <a:srgbClr val="595959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595959"/>
                </a:solidFill>
                <a:latin typeface="Verdana"/>
              </a:rPr>
              <a:t> г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6" descr="Coat_of_Arms_of_Vargachinskiy_rayon_(Kurganskaya_oblast)"/>
          <p:cNvPicPr/>
          <p:nvPr/>
        </p:nvPicPr>
        <p:blipFill>
          <a:blip r:embed="rId1"/>
          <a:stretch/>
        </p:blipFill>
        <p:spPr>
          <a:xfrm>
            <a:off x="3564000" y="189000"/>
            <a:ext cx="216036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685800" y="0"/>
            <a:ext cx="78469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YaHei"/>
              </a:rPr>
              <a:t>Расходы бюджета Варгашинского района за 2015 го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YaHei"/>
              </a:rPr>
              <a:t>на социально-значимые статьи расх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89027,5 тыс.ру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8" descr="Coat_of_Arms_of_Vargachinskiy_rayon_(Kurganskaya_oblast)"/>
          <p:cNvPicPr/>
          <p:nvPr/>
        </p:nvPicPr>
        <p:blipFill>
          <a:blip r:embed="rId1"/>
          <a:stretch/>
        </p:blipFill>
        <p:spPr>
          <a:xfrm>
            <a:off x="0" y="0"/>
            <a:ext cx="6843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179280" y="1341360"/>
          <a:ext cx="8622000" cy="522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341360"/>
                    <a:ext cx="8622000" cy="52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5"/>
          <p:cNvGraphicFramePr/>
          <p:nvPr/>
        </p:nvGraphicFramePr>
        <p:xfrm>
          <a:off x="179280" y="1628640"/>
          <a:ext cx="875196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875196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533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ходы бюджета Варгашинского района на  образование   в 2015 году составили 228110,6 тыс.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2640" y="5829120"/>
            <a:ext cx="8001000" cy="10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асходы  бюджета Варгашинского района на общее образование на каждого обучающегося  в 2015 году составили 69,6 тыс.руб., что на 1,5 тыс. руб. меньше уровня 2014 год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Coat_of_Arms_of_Vargachinskiy_rayon_(Kurganskaya_oblast)"/>
          <p:cNvPicPr/>
          <p:nvPr/>
        </p:nvPicPr>
        <p:blipFill>
          <a:blip r:embed="rId3"/>
          <a:stretch/>
        </p:blipFill>
        <p:spPr>
          <a:xfrm>
            <a:off x="0" y="0"/>
            <a:ext cx="857160" cy="7779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324000" y="2708280"/>
            <a:ext cx="107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го 237209,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ыс.ру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788000" y="299736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го 229245,9 тыс.ру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7"/>
          <p:cNvSpPr/>
          <p:nvPr/>
        </p:nvSpPr>
        <p:spPr>
          <a:xfrm>
            <a:off x="4879800" y="765000"/>
            <a:ext cx="35546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1"/>
          <a:srcRect l="0" t="7133" r="0" b="0"/>
          <a:stretch/>
        </p:blipFill>
        <p:spPr>
          <a:xfrm>
            <a:off x="5813280" y="4076640"/>
            <a:ext cx="2935440" cy="181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214200" y="928800"/>
          <a:ext cx="4500720" cy="2479680"/>
        </p:xfrm>
        <a:graphic>
          <a:graphicData uri="http://schemas.openxmlformats.org/drawingml/2006/table">
            <a:tbl>
              <a:tblPr/>
              <a:tblGrid>
                <a:gridCol w="3256200"/>
                <a:gridCol w="1244520"/>
              </a:tblGrid>
              <a:tr h="11509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 20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году 1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9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детей отдохнули и прошли лечение в организациях на территории области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тдых в лагерях дневного пребыв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>
                        <a:alpha val="54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>
                        <a:alpha val="54000"/>
                      </a:srgbClr>
                    </a:solidFill>
                  </a:tcPr>
                </a:tc>
              </a:tr>
              <a:tr h="442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тдых в загородных оздоровительных лагерях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>
                        <a:alpha val="54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>
                        <a:alpha val="54000"/>
                      </a:srgbClr>
                    </a:solidFill>
                  </a:tcPr>
                </a:tc>
              </a:tr>
              <a:tr h="443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тдых детей, находящихся в трудной жизненной ситу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>
                        <a:alpha val="54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>
                        <a:alpha val="54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86" name="Picture 8" descr="Coat_of_Arms_of_Vargachinskiy_rayon_(Kurganskaya_oblast)"/>
          <p:cNvPicPr/>
          <p:nvPr/>
        </p:nvPicPr>
        <p:blipFill>
          <a:blip r:embed="rId2"/>
          <a:stretch/>
        </p:blipFill>
        <p:spPr>
          <a:xfrm>
            <a:off x="0" y="0"/>
            <a:ext cx="857160" cy="85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Диаграмма 12"/>
          <p:cNvGraphicFramePr/>
          <p:nvPr/>
        </p:nvGraphicFramePr>
        <p:xfrm>
          <a:off x="217440" y="3497400"/>
          <a:ext cx="5356440" cy="303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8" name="Диаграмма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440" y="3497400"/>
                    <a:ext cx="535644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Диаграмма 9"/>
          <p:cNvGraphicFramePr/>
          <p:nvPr/>
        </p:nvGraphicFramePr>
        <p:xfrm>
          <a:off x="4673520" y="696960"/>
          <a:ext cx="4659480" cy="24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90" name="Диаграмма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73520" y="696960"/>
                    <a:ext cx="4659480" cy="24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26"/>
          <p:cNvSpPr/>
          <p:nvPr/>
        </p:nvSpPr>
        <p:spPr>
          <a:xfrm>
            <a:off x="900000" y="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я отдыха и оздоровления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1"/>
          <p:cNvGrpSpPr/>
          <p:nvPr/>
        </p:nvGrpSpPr>
        <p:grpSpPr>
          <a:xfrm>
            <a:off x="6532560" y="1989000"/>
            <a:ext cx="2611440" cy="2263680"/>
            <a:chOff x="6532560" y="1989000"/>
            <a:chExt cx="2611440" cy="2263680"/>
          </a:xfrm>
        </p:grpSpPr>
        <p:pic>
          <p:nvPicPr>
            <p:cNvPr id="193" name="Picture 2" descr=""/>
            <p:cNvPicPr/>
            <p:nvPr/>
          </p:nvPicPr>
          <p:blipFill>
            <a:blip r:embed="rId1"/>
            <a:stretch/>
          </p:blipFill>
          <p:spPr>
            <a:xfrm>
              <a:off x="6532560" y="1989000"/>
              <a:ext cx="2611440" cy="22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3"/>
            <p:cNvSpPr/>
            <p:nvPr/>
          </p:nvSpPr>
          <p:spPr>
            <a:xfrm>
              <a:off x="7154640" y="2085840"/>
              <a:ext cx="1793880" cy="20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змещение процента   ипотечного кредита преподавателя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,7тыс.  руб.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Group 4"/>
          <p:cNvGrpSpPr/>
          <p:nvPr/>
        </p:nvGrpSpPr>
        <p:grpSpPr>
          <a:xfrm>
            <a:off x="0" y="1989000"/>
            <a:ext cx="2867040" cy="2232000"/>
            <a:chOff x="0" y="1989000"/>
            <a:chExt cx="2867040" cy="2232000"/>
          </a:xfrm>
        </p:grpSpPr>
        <p:pic>
          <p:nvPicPr>
            <p:cNvPr id="196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989000"/>
              <a:ext cx="28670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6"/>
            <p:cNvSpPr/>
            <p:nvPr/>
          </p:nvSpPr>
          <p:spPr>
            <a:xfrm>
              <a:off x="144360" y="2084760"/>
              <a:ext cx="2100240" cy="19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едоставление субсиди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лодым семьям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 молодым специалистам, проживающим в сельской местности  на приобретение строительство)         жиль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23,0тыс.руб.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8" name="Group 7"/>
          <p:cNvGrpSpPr/>
          <p:nvPr/>
        </p:nvGrpSpPr>
        <p:grpSpPr>
          <a:xfrm>
            <a:off x="5867280" y="4653000"/>
            <a:ext cx="3276360" cy="1490760"/>
            <a:chOff x="5867280" y="4653000"/>
            <a:chExt cx="3276360" cy="1490760"/>
          </a:xfrm>
        </p:grpSpPr>
        <p:pic>
          <p:nvPicPr>
            <p:cNvPr id="199" name="Picture 8" descr=""/>
            <p:cNvPicPr/>
            <p:nvPr/>
          </p:nvPicPr>
          <p:blipFill>
            <a:blip r:embed="rId3"/>
            <a:stretch/>
          </p:blipFill>
          <p:spPr>
            <a:xfrm>
              <a:off x="5867280" y="4653000"/>
              <a:ext cx="3276360" cy="14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9"/>
            <p:cNvSpPr/>
            <p:nvPr/>
          </p:nvSpPr>
          <p:spPr>
            <a:xfrm>
              <a:off x="6295680" y="4749840"/>
              <a:ext cx="273384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едоставление субсидий по обеспечению жильем молодых семей 2268,0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ыс.руб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Group 10"/>
          <p:cNvGrpSpPr/>
          <p:nvPr/>
        </p:nvGrpSpPr>
        <p:grpSpPr>
          <a:xfrm>
            <a:off x="0" y="4724280"/>
            <a:ext cx="69840" cy="1490760"/>
            <a:chOff x="0" y="4724280"/>
            <a:chExt cx="69840" cy="1490760"/>
          </a:xfrm>
        </p:grpSpPr>
        <p:pic>
          <p:nvPicPr>
            <p:cNvPr id="202" name="Picture 11" descr=""/>
            <p:cNvPicPr/>
            <p:nvPr/>
          </p:nvPicPr>
          <p:blipFill>
            <a:blip r:embed="rId4"/>
            <a:stretch/>
          </p:blipFill>
          <p:spPr>
            <a:xfrm>
              <a:off x="0" y="4724280"/>
              <a:ext cx="69840" cy="14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2"/>
            <p:cNvSpPr/>
            <p:nvPr/>
          </p:nvSpPr>
          <p:spPr>
            <a:xfrm>
              <a:off x="2520" y="4824360"/>
              <a:ext cx="5580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Group 13"/>
          <p:cNvGrpSpPr/>
          <p:nvPr/>
        </p:nvGrpSpPr>
        <p:grpSpPr>
          <a:xfrm>
            <a:off x="3132000" y="476280"/>
            <a:ext cx="2917800" cy="1722240"/>
            <a:chOff x="3132000" y="476280"/>
            <a:chExt cx="2917800" cy="1722240"/>
          </a:xfrm>
        </p:grpSpPr>
        <p:pic>
          <p:nvPicPr>
            <p:cNvPr id="205" name="Picture 14" descr=""/>
            <p:cNvPicPr/>
            <p:nvPr/>
          </p:nvPicPr>
          <p:blipFill>
            <a:blip r:embed="rId5"/>
            <a:stretch/>
          </p:blipFill>
          <p:spPr>
            <a:xfrm>
              <a:off x="3132000" y="476280"/>
              <a:ext cx="2917800" cy="17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5"/>
            <p:cNvSpPr/>
            <p:nvPr/>
          </p:nvSpPr>
          <p:spPr>
            <a:xfrm>
              <a:off x="3357360" y="679320"/>
              <a:ext cx="2463480" cy="12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На улучшение жилищных условий граждан в 2015 году  направлено всего 6226,6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ыс.</a:t>
              </a: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 руб., в том числе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7" name="Picture 25" descr=""/>
          <p:cNvPicPr/>
          <p:nvPr/>
        </p:nvPicPr>
        <p:blipFill>
          <a:blip r:embed="rId6"/>
          <a:stretch/>
        </p:blipFill>
        <p:spPr>
          <a:xfrm>
            <a:off x="1440" y="-19080"/>
            <a:ext cx="9144000" cy="652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6" descr=""/>
          <p:cNvPicPr/>
          <p:nvPr/>
        </p:nvPicPr>
        <p:blipFill>
          <a:blip r:embed="rId7"/>
          <a:stretch/>
        </p:blipFill>
        <p:spPr>
          <a:xfrm>
            <a:off x="106200" y="9360"/>
            <a:ext cx="720720" cy="508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7" descr=""/>
          <p:cNvPicPr/>
          <p:nvPr/>
        </p:nvPicPr>
        <p:blipFill>
          <a:blip r:embed="rId8"/>
          <a:stretch/>
        </p:blipFill>
        <p:spPr>
          <a:xfrm>
            <a:off x="3276720" y="2276640"/>
            <a:ext cx="2627280" cy="1873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Coat_of_Arms_of_Vargachinskiy_rayon_(Kurganskaya_oblast)"/>
          <p:cNvPicPr/>
          <p:nvPr/>
        </p:nvPicPr>
        <p:blipFill>
          <a:blip r:embed="rId9"/>
          <a:stretch/>
        </p:blipFill>
        <p:spPr>
          <a:xfrm>
            <a:off x="0" y="0"/>
            <a:ext cx="857160" cy="77796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4"/>
          <p:cNvGrpSpPr/>
          <p:nvPr/>
        </p:nvGrpSpPr>
        <p:grpSpPr>
          <a:xfrm>
            <a:off x="0" y="4653000"/>
            <a:ext cx="3671640" cy="1511280"/>
            <a:chOff x="0" y="4653000"/>
            <a:chExt cx="3671640" cy="1511280"/>
          </a:xfrm>
        </p:grpSpPr>
        <p:pic>
          <p:nvPicPr>
            <p:cNvPr id="212" name="Picture 5" descr=""/>
            <p:cNvPicPr/>
            <p:nvPr/>
          </p:nvPicPr>
          <p:blipFill>
            <a:blip r:embed="rId10"/>
            <a:stretch/>
          </p:blipFill>
          <p:spPr>
            <a:xfrm>
              <a:off x="0" y="4653000"/>
              <a:ext cx="36716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6"/>
            <p:cNvSpPr/>
            <p:nvPr/>
          </p:nvSpPr>
          <p:spPr>
            <a:xfrm>
              <a:off x="184680" y="4717800"/>
              <a:ext cx="268956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еспечение жильем детей-сирот и детей, оставшихся без попечения родителе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708,9 тыс.руб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 flipV="1">
            <a:off x="4896000" y="8155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оставление субсид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одым семья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молодым специалист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34920" y="907920"/>
          <a:ext cx="9077400" cy="5156280"/>
        </p:xfrm>
        <a:graphic>
          <a:graphicData uri="http://schemas.openxmlformats.org/drawingml/2006/table">
            <a:tbl>
              <a:tblPr/>
              <a:tblGrid>
                <a:gridCol w="6337440"/>
                <a:gridCol w="1584360"/>
                <a:gridCol w="1155600"/>
              </a:tblGrid>
              <a:tr h="1081080"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именование меры социальной поддержк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Число получателе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Расходы за 201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год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741600"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Ежемесячная выплата приемной семье на содержание подопечных дете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04,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741240"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Ежемесячное вознаграждение опекунов (попечителей), приемных родителе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58,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741240"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Ежемесячная выплата семьям опекунов на содержание подопечных дете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4,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109880"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Единовременные денежные пособия при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Microsoft YaHei"/>
                          <a:ea typeface="Microsoft YaHei"/>
                        </a:rPr>
                        <a:t>всех формах устройства детей, лишенных родительского попечения, в семью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0,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741240"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сег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97,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  <p:pic>
        <p:nvPicPr>
          <p:cNvPr id="216" name="Picture 8" descr="Coat_of_Arms_of_Vargachinskiy_rayon_(Kurganskaya_oblast)"/>
          <p:cNvPicPr/>
          <p:nvPr/>
        </p:nvPicPr>
        <p:blipFill>
          <a:blip r:embed="rId1"/>
          <a:stretch/>
        </p:blipFill>
        <p:spPr>
          <a:xfrm>
            <a:off x="0" y="0"/>
            <a:ext cx="857160" cy="7779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82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асходы на охрану семьи и детства, тыс. ру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79280" y="1125360"/>
          <a:ext cx="8640720" cy="1571760"/>
        </p:xfrm>
        <a:graphic>
          <a:graphicData uri="http://schemas.openxmlformats.org/drawingml/2006/table">
            <a:tbl>
              <a:tblPr/>
              <a:tblGrid>
                <a:gridCol w="7129440"/>
                <a:gridCol w="1511280"/>
              </a:tblGrid>
              <a:tr h="64800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асходы за 20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923760">
                <a:tc>
                  <a:txBody>
                    <a:bodyPr lIns="8640" rIns="8640" tIns="8640" bIns="0" anchor="ctr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редоставление мер социальной поддержки лицам, проживающим и работающим в сельской местности и в рабочих посёлках (посёлках городского тип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99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9360">
                      <a:solidFill>
                        <a:srgbClr val="ffc000"/>
                      </a:solidFill>
                    </a:lnL>
                    <a:lnR w="9360">
                      <a:solidFill>
                        <a:srgbClr val="ffc000"/>
                      </a:solidFill>
                    </a:lnR>
                    <a:lnT w="9360">
                      <a:solidFill>
                        <a:srgbClr val="ffc000"/>
                      </a:solidFill>
                    </a:lnT>
                    <a:lnB w="9360">
                      <a:solidFill>
                        <a:srgbClr val="ffc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pic>
        <p:nvPicPr>
          <p:cNvPr id="219" name="Picture 8" descr="Coat_of_Arms_of_Vargachinskiy_rayon_(Kurganskaya_oblast)"/>
          <p:cNvPicPr/>
          <p:nvPr/>
        </p:nvPicPr>
        <p:blipFill>
          <a:blip r:embed="rId1"/>
          <a:stretch/>
        </p:blipFill>
        <p:spPr>
          <a:xfrm>
            <a:off x="0" y="0"/>
            <a:ext cx="857160" cy="7779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7480" y="299520"/>
            <a:ext cx="789624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Меры социальной поддержки лицам, проживающим и работающим в сельской местности и в рабочих поселках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3" descr="367377_uchitel_uchenik_znanie_1500x1391_(www"/>
          <p:cNvPicPr/>
          <p:nvPr/>
        </p:nvPicPr>
        <p:blipFill>
          <a:blip r:embed="rId2"/>
          <a:stretch/>
        </p:blipFill>
        <p:spPr>
          <a:xfrm>
            <a:off x="684360" y="3357720"/>
            <a:ext cx="3078000" cy="2854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4" descr="high-sch1"/>
          <p:cNvPicPr/>
          <p:nvPr/>
        </p:nvPicPr>
        <p:blipFill>
          <a:blip r:embed="rId3"/>
          <a:stretch/>
        </p:blipFill>
        <p:spPr>
          <a:xfrm>
            <a:off x="4427640" y="2997360"/>
            <a:ext cx="3898800" cy="32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Диаграмма 3"/>
          <p:cNvGraphicFramePr/>
          <p:nvPr/>
        </p:nvGraphicFramePr>
        <p:xfrm>
          <a:off x="536400" y="2119320"/>
          <a:ext cx="8099640" cy="48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2119320"/>
                    <a:ext cx="809964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5" name="Picture 8" descr="Coat_of_Arms_of_Vargachinskiy_rayon_(Kurganskaya_oblast)"/>
          <p:cNvPicPr/>
          <p:nvPr/>
        </p:nvPicPr>
        <p:blipFill>
          <a:blip r:embed="rId3"/>
          <a:stretch/>
        </p:blipFill>
        <p:spPr>
          <a:xfrm>
            <a:off x="0" y="0"/>
            <a:ext cx="857160" cy="8366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80010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Межбюджетные трансферты бюджетам поселений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68360" y="981000"/>
            <a:ext cx="799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стема межбюджетных трансфертов бюджетам поселений была направлена в 2015 году на финансовое обеспечение первоочередных расходов, связанных с выплатой заработной платы, оплатой коммунальных услуг, социальным обеспечени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3008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рошюра подготовлена Финансовым отделом Администрации Варгашинского района Курган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л.Чкалова,22,  р.п. Варгаши,  6412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ефон (8-35233) 2-06-4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кс(8-35233) 2-10-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-mail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fo4503@mai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Coat_of_Arms_of_Vargachinskiy_rayon_(Kurganskaya_oblast)"/>
          <p:cNvPicPr/>
          <p:nvPr/>
        </p:nvPicPr>
        <p:blipFill>
          <a:blip r:embed="rId2"/>
          <a:stretch/>
        </p:blipFill>
        <p:spPr>
          <a:xfrm>
            <a:off x="0" y="0"/>
            <a:ext cx="857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318960" y="620640"/>
            <a:ext cx="87123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ажаемые граждане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Жители поселка и района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дной из главных задач, которые мы поставили перед собой, является обеспечение открытости и прозрачности нашей деятельности. Для нас важно, чтобы Вы не только знали, на что тратятся бюджетные средства и какие направления в  бюджете Варгашинского района наиболее значимы, но и принимали участие в формировании этих приорите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 Варгашинского района сохраняет свою социальную направленность, сегодня уделяется большое внимание развитию социальной инфраструктуры, благоустройству, улучшению жилищных услов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Бюджет для граждан» разработан для повышения прозрачности и открытости бюджета и бюджетного процесса на основании Бюджетного послания Президента РФ. Публикуемая в этом разделе информация, поможет вам, уважаемые граждане, разобраться в непростом бюджетном вопросе и сделать выводы об эффективности бюджетных расходов. Ваше участие поможет нам акцентировать внимание на наиболее острых проблемах и рассмотреть возможности направления бюджетных ресурсов на их реш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0" descr="Coat_of_Arms_of_Vargachinskiy_rayon_(Kurganskaya_oblast)"/>
          <p:cNvPicPr/>
          <p:nvPr/>
        </p:nvPicPr>
        <p:blipFill>
          <a:blip r:embed="rId1"/>
          <a:stretch/>
        </p:blipFill>
        <p:spPr>
          <a:xfrm>
            <a:off x="0" y="0"/>
            <a:ext cx="82692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417600" y="1916280"/>
            <a:ext cx="87264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7480">
              <a:lnSpc>
                <a:spcPct val="80000"/>
              </a:lnSpc>
              <a:buClr>
                <a:srgbClr val="953735"/>
              </a:buClr>
              <a:buFont typeface="Wingdings" charset="2"/>
              <a:buChar char="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бюдже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8920" indent="-357480">
              <a:lnSpc>
                <a:spcPct val="80000"/>
              </a:lnSpc>
              <a:buClr>
                <a:srgbClr val="953735"/>
              </a:buClr>
              <a:buFont typeface="Wingdings" charset="2"/>
              <a:buChar char="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8920" indent="-357480">
              <a:lnSpc>
                <a:spcPct val="80000"/>
              </a:lnSpc>
              <a:buClr>
                <a:srgbClr val="953735"/>
              </a:buClr>
              <a:buFont typeface="Wingdings" charset="2"/>
              <a:buChar char="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бюджет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8920" indent="-357480">
              <a:lnSpc>
                <a:spcPct val="80000"/>
              </a:lnSpc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8920" indent="-357480">
              <a:lnSpc>
                <a:spcPct val="80000"/>
              </a:lnSpc>
              <a:buClr>
                <a:srgbClr val="953735"/>
              </a:buClr>
              <a:buFont typeface="Wingdings" charset="2"/>
              <a:buChar char="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финансирования дефицита  бюдже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0" descr="Coat_of_Arms_of_Vargachinskiy_rayon_(Kurganskaya_oblast)"/>
          <p:cNvPicPr/>
          <p:nvPr/>
        </p:nvPicPr>
        <p:blipFill>
          <a:blip r:embed="rId1"/>
          <a:stretch/>
        </p:blipFill>
        <p:spPr>
          <a:xfrm>
            <a:off x="0" y="0"/>
            <a:ext cx="863640" cy="8366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1"/>
          <p:cNvSpPr/>
          <p:nvPr/>
        </p:nvSpPr>
        <p:spPr>
          <a:xfrm>
            <a:off x="1187280" y="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бюджета Варгашинс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й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Text Box 4"/>
          <p:cNvGrpSpPr/>
          <p:nvPr/>
        </p:nvGrpSpPr>
        <p:grpSpPr>
          <a:xfrm>
            <a:off x="-195120" y="652320"/>
            <a:ext cx="9478800" cy="2200320"/>
            <a:chOff x="-195120" y="652320"/>
            <a:chExt cx="9478800" cy="2200320"/>
          </a:xfrm>
        </p:grpSpPr>
        <p:pic>
          <p:nvPicPr>
            <p:cNvPr id="100" name="Text Box 4" descr=""/>
            <p:cNvPicPr/>
            <p:nvPr/>
          </p:nvPicPr>
          <p:blipFill>
            <a:blip r:embed="rId1"/>
            <a:stretch/>
          </p:blipFill>
          <p:spPr>
            <a:xfrm>
              <a:off x="-195120" y="652320"/>
              <a:ext cx="947880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0" y="792000"/>
              <a:ext cx="9144000" cy="18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одовой отчет об исполнении  бюджета Варгашинского района за 2015 год составлен в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оответствии с положениями Бюджетного кодекса Российской Федерации, решени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ргашинской районной Думы «О бюджетном процессе в Варгашинском районе», и «О бюджет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ргашинского района на 2015 год и на плановый период 2016 и 2017 годов»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 учетом внесенных изменений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2" name="Picture 10" descr="Coat_of_Arms_of_Vargachinskiy_rayon_(Kurganskaya_oblast)"/>
          <p:cNvPicPr/>
          <p:nvPr/>
        </p:nvPicPr>
        <p:blipFill>
          <a:blip r:embed="rId2"/>
          <a:stretch/>
        </p:blipFill>
        <p:spPr>
          <a:xfrm>
            <a:off x="0" y="0"/>
            <a:ext cx="826920" cy="792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сновные параметры бюджета Варгашинского рай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63320" y="3379320"/>
            <a:ext cx="7210440" cy="16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0" y="2421000"/>
          <a:ext cx="8737560" cy="47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21000"/>
                    <a:ext cx="873756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5"/>
          <p:cNvGrpSpPr/>
          <p:nvPr/>
        </p:nvGrpSpPr>
        <p:grpSpPr>
          <a:xfrm>
            <a:off x="5940360" y="2205000"/>
            <a:ext cx="3527280" cy="4462560"/>
            <a:chOff x="5940360" y="2205000"/>
            <a:chExt cx="3527280" cy="4462560"/>
          </a:xfrm>
        </p:grpSpPr>
        <p:pic>
          <p:nvPicPr>
            <p:cNvPr id="108" name="Picture 6" descr=""/>
            <p:cNvPicPr/>
            <p:nvPr/>
          </p:nvPicPr>
          <p:blipFill>
            <a:blip r:embed="rId1"/>
            <a:stretch/>
          </p:blipFill>
          <p:spPr>
            <a:xfrm>
              <a:off x="5940360" y="2205000"/>
              <a:ext cx="3527280" cy="446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/>
            <p:cNvSpPr/>
            <p:nvPr/>
          </p:nvSpPr>
          <p:spPr>
            <a:xfrm>
              <a:off x="6059160" y="2393280"/>
              <a:ext cx="3408120" cy="39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Calibri"/>
                </a:rPr>
                <a:t>	</a:t>
              </a: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</a:rPr>
                <a:t>Из областного бюджета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</a:rPr>
                <a:t>- дотации на выравнивание бюджетной обеспеченности муниципальных районов и на обеспечение сбалансированности бюджетов </a:t>
              </a:r>
              <a:r>
                <a:rPr b="1" lang="ru-RU" sz="1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115052,0 тыс.руб.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</a:rPr>
                <a:t>- субсидии  </a:t>
              </a:r>
              <a:r>
                <a:rPr b="1" lang="ru-RU" sz="1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32304,1 тыс..руб.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</a:rPr>
                <a:t>- субвенции </a:t>
              </a:r>
              <a:r>
                <a:rPr b="1" lang="ru-RU" sz="1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167745,</a:t>
              </a: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r>
                <a:rPr b="1" lang="ru-RU" sz="1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 тыс. руб.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0000"/>
                </a:buClr>
                <a:buFont typeface="Times New Roman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</a:rPr>
                <a:t>иные межбюджетные трансферты 2822,6 тыс.руб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</a:rPr>
                <a:t>От бюджетов поселений на осуществление части полномочий  </a:t>
              </a:r>
              <a:r>
                <a:rPr b="1" lang="ru-RU" sz="1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23503,1 тыс.руб</a:t>
              </a: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14"/>
          <p:cNvGrpSpPr/>
          <p:nvPr/>
        </p:nvGrpSpPr>
        <p:grpSpPr>
          <a:xfrm>
            <a:off x="6659640" y="692280"/>
            <a:ext cx="2484360" cy="1438920"/>
            <a:chOff x="6659640" y="692280"/>
            <a:chExt cx="2484360" cy="1438920"/>
          </a:xfrm>
        </p:grpSpPr>
        <p:pic>
          <p:nvPicPr>
            <p:cNvPr id="111" name="Picture 15" descr=""/>
            <p:cNvPicPr/>
            <p:nvPr/>
          </p:nvPicPr>
          <p:blipFill>
            <a:blip r:embed="rId2"/>
            <a:stretch/>
          </p:blipFill>
          <p:spPr>
            <a:xfrm>
              <a:off x="6659640" y="692280"/>
              <a:ext cx="2484360" cy="14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6"/>
            <p:cNvSpPr/>
            <p:nvPr/>
          </p:nvSpPr>
          <p:spPr>
            <a:xfrm>
              <a:off x="6659640" y="819000"/>
              <a:ext cx="2404080" cy="11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БЕЗВОЗМЕЗДНЫЕ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ступления от других бюджетов бюджетной системы РФ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341427,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ыс.руб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 Box 18"/>
          <p:cNvSpPr/>
          <p:nvPr/>
        </p:nvSpPr>
        <p:spPr>
          <a:xfrm>
            <a:off x="3132000" y="1628640"/>
            <a:ext cx="2921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ХОД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А ВАРГАШИ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00550,5, тыс. руб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9" descr=""/>
          <p:cNvPicPr/>
          <p:nvPr/>
        </p:nvPicPr>
        <p:blipFill>
          <a:blip r:embed="rId3"/>
          <a:stretch/>
        </p:blipFill>
        <p:spPr>
          <a:xfrm>
            <a:off x="196920" y="784080"/>
            <a:ext cx="2879640" cy="178920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20"/>
          <p:cNvGrpSpPr/>
          <p:nvPr/>
        </p:nvGrpSpPr>
        <p:grpSpPr>
          <a:xfrm>
            <a:off x="250920" y="2565360"/>
            <a:ext cx="2977920" cy="703080"/>
            <a:chOff x="250920" y="2565360"/>
            <a:chExt cx="2977920" cy="703080"/>
          </a:xfrm>
        </p:grpSpPr>
        <p:pic>
          <p:nvPicPr>
            <p:cNvPr id="116" name="Picture 21" descr=""/>
            <p:cNvPicPr/>
            <p:nvPr/>
          </p:nvPicPr>
          <p:blipFill>
            <a:blip r:embed="rId4"/>
            <a:stretch/>
          </p:blipFill>
          <p:spPr>
            <a:xfrm>
              <a:off x="250920" y="2565360"/>
              <a:ext cx="2977920" cy="7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22"/>
            <p:cNvSpPr/>
            <p:nvPr/>
          </p:nvSpPr>
          <p:spPr>
            <a:xfrm>
              <a:off x="307800" y="2624040"/>
              <a:ext cx="28602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СОБСТВЕННЫЕ ДОХОД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59122,9 тыс.руб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23"/>
          <p:cNvGrpSpPr/>
          <p:nvPr/>
        </p:nvGrpSpPr>
        <p:grpSpPr>
          <a:xfrm>
            <a:off x="0" y="3284640"/>
            <a:ext cx="3634920" cy="3357000"/>
            <a:chOff x="0" y="3284640"/>
            <a:chExt cx="3634920" cy="3357000"/>
          </a:xfrm>
        </p:grpSpPr>
        <p:pic>
          <p:nvPicPr>
            <p:cNvPr id="119" name="Picture 24" descr=""/>
            <p:cNvPicPr/>
            <p:nvPr/>
          </p:nvPicPr>
          <p:blipFill>
            <a:blip r:embed="rId5"/>
            <a:stretch/>
          </p:blipFill>
          <p:spPr>
            <a:xfrm>
              <a:off x="0" y="3284640"/>
              <a:ext cx="3634920" cy="33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25"/>
            <p:cNvSpPr/>
            <p:nvPr/>
          </p:nvSpPr>
          <p:spPr>
            <a:xfrm>
              <a:off x="160560" y="3449160"/>
              <a:ext cx="3313440" cy="30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налог на доходы физических лиц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6410,5 тыс.руб.. руб.</a:t>
              </a: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ts val="1874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единый налог на вмененный доход  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994,0 тыс. руб.</a:t>
              </a: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ts val="1874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единый сельскохозяйственный налог 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98,4 тыс.руб.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ts val="1874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доходы от использования имущества, находящегося в муниципальной собственности  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2982,1 тыс. ру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ts val="1874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другие налоговые и неналоговые доходы 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15337,9 тыс. руб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ts val="1874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541800" y="-752760"/>
            <a:ext cx="11377800" cy="15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 бюджета Варгашинского района  за  201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2" descr="Coat_of_Arms_of_Vargachinskiy_rayon_(Kurganskaya_oblast)"/>
          <p:cNvPicPr/>
          <p:nvPr/>
        </p:nvPicPr>
        <p:blipFill>
          <a:blip r:embed="rId6"/>
          <a:stretch/>
        </p:blipFill>
        <p:spPr>
          <a:xfrm>
            <a:off x="0" y="0"/>
            <a:ext cx="792000" cy="76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Объект 2"/>
          <p:cNvGraphicFramePr/>
          <p:nvPr/>
        </p:nvGraphicFramePr>
        <p:xfrm>
          <a:off x="2727360" y="3056040"/>
          <a:ext cx="3687840" cy="2901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4" name="Объект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27360" y="3056040"/>
                    <a:ext cx="368784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4"/>
          <p:cNvGraphicFramePr/>
          <p:nvPr/>
        </p:nvGraphicFramePr>
        <p:xfrm>
          <a:off x="973080" y="249120"/>
          <a:ext cx="7721640" cy="520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249120"/>
                    <a:ext cx="7721640" cy="52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Picture 22" descr="Coat_of_Arms_of_Vargachinskiy_rayon_(Kurganskaya_oblast)"/>
          <p:cNvPicPr/>
          <p:nvPr/>
        </p:nvPicPr>
        <p:blipFill>
          <a:blip r:embed="rId3"/>
          <a:stretch/>
        </p:blipFill>
        <p:spPr>
          <a:xfrm>
            <a:off x="0" y="0"/>
            <a:ext cx="863640" cy="836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5977080" y="148428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сего 400550,5 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1"/>
          <p:cNvGraphicFramePr/>
          <p:nvPr/>
        </p:nvGraphicFramePr>
        <p:xfrm>
          <a:off x="3367080" y="333360"/>
          <a:ext cx="5776920" cy="60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7080" y="333360"/>
                    <a:ext cx="5776920" cy="60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2"/>
          <p:cNvGraphicFramePr/>
          <p:nvPr/>
        </p:nvGraphicFramePr>
        <p:xfrm>
          <a:off x="0" y="907920"/>
          <a:ext cx="5384880" cy="54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907920"/>
                    <a:ext cx="53848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Line 6"/>
          <p:cNvSpPr/>
          <p:nvPr/>
        </p:nvSpPr>
        <p:spPr>
          <a:xfrm flipV="1">
            <a:off x="3187800" y="762120"/>
            <a:ext cx="2162160" cy="18698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1" descr="Coat_of_Arms_of_Vargachinskiy_rayon_(Kurganskaya_oblast)"/>
          <p:cNvPicPr/>
          <p:nvPr/>
        </p:nvPicPr>
        <p:blipFill>
          <a:blip r:embed="rId5"/>
          <a:stretch/>
        </p:blipFill>
        <p:spPr>
          <a:xfrm>
            <a:off x="0" y="0"/>
            <a:ext cx="865080" cy="692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2"/>
          <p:cNvSpPr/>
          <p:nvPr/>
        </p:nvSpPr>
        <p:spPr>
          <a:xfrm>
            <a:off x="928800" y="-244440"/>
            <a:ext cx="8001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труктура доходов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бюджета Варгашинского района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в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201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году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5796000" y="2133720"/>
            <a:ext cx="136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1,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5435640" y="4292640"/>
            <a:ext cx="136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6084720" y="4724280"/>
            <a:ext cx="1368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5508720" y="4869000"/>
            <a:ext cx="57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6084720" y="5445000"/>
            <a:ext cx="1368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5,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250920" y="836640"/>
            <a:ext cx="86756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icrosoft YaHei"/>
              </a:rPr>
              <a:t>Расходы  бюджета Варгашинского района по разделам  классификации расходов бюджета за 20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icrosoft YaHe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Microsoft YaHei"/>
              </a:rPr>
              <a:t>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(сумма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доля в общей сумме расходов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35"/>
          <p:cNvSpPr/>
          <p:nvPr/>
        </p:nvSpPr>
        <p:spPr>
          <a:xfrm rot="5400000">
            <a:off x="4287600" y="1984320"/>
            <a:ext cx="390600" cy="8175600"/>
          </a:xfrm>
          <a:custGeom>
            <a:avLst/>
            <a:gdLst>
              <a:gd name="textAreaLeft" fmla="*/ 0 w 390600"/>
              <a:gd name="textAreaRight" fmla="*/ 141120 w 390600"/>
              <a:gd name="textAreaTop" fmla="*/ 10080 h 8175600"/>
              <a:gd name="textAreaBottom" fmla="*/ 8165520 h 817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"/>
                  <a:pt x="10800" y="86"/>
                </a:cubicBezTo>
                <a:lnTo>
                  <a:pt x="10800" y="10738"/>
                </a:lnTo>
                <a:cubicBezTo>
                  <a:pt x="10800" y="10781"/>
                  <a:pt x="16200" y="10824"/>
                  <a:pt x="21600" y="10824"/>
                </a:cubicBezTo>
                <a:cubicBezTo>
                  <a:pt x="16200" y="10824"/>
                  <a:pt x="10800" y="10867"/>
                  <a:pt x="10800" y="10910"/>
                </a:cubicBezTo>
                <a:lnTo>
                  <a:pt x="10800" y="21514"/>
                </a:lnTo>
                <a:cubicBezTo>
                  <a:pt x="10800" y="21557"/>
                  <a:pt x="5400" y="21600"/>
                  <a:pt x="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6"/>
          <p:cNvSpPr/>
          <p:nvPr/>
        </p:nvSpPr>
        <p:spPr>
          <a:xfrm>
            <a:off x="2916360" y="6381720"/>
            <a:ext cx="30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сего расходы 397531,5 тыс. руб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0" descr="Coat_of_Arms_of_Vargachinskiy_rayon_(Kurganskaya_oblast)"/>
          <p:cNvPicPr/>
          <p:nvPr/>
        </p:nvPicPr>
        <p:blipFill>
          <a:blip r:embed="rId1"/>
          <a:stretch/>
        </p:blipFill>
        <p:spPr>
          <a:xfrm>
            <a:off x="0" y="0"/>
            <a:ext cx="1042920" cy="9367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800604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сходы бюджета Варгашинского                   район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7" descr="russiacoatofarms"/>
          <p:cNvPicPr/>
          <p:nvPr/>
        </p:nvPicPr>
        <p:blipFill>
          <a:blip r:embed="rId2"/>
          <a:stretch/>
        </p:blipFill>
        <p:spPr>
          <a:xfrm>
            <a:off x="179280" y="2133720"/>
            <a:ext cx="606600" cy="720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8"/>
          <p:cNvSpPr/>
          <p:nvPr/>
        </p:nvSpPr>
        <p:spPr>
          <a:xfrm>
            <a:off x="0" y="3068640"/>
            <a:ext cx="826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государственные вопросы -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8753,9 тыс.руб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7,2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9" descr="5567"/>
          <p:cNvPicPr/>
          <p:nvPr/>
        </p:nvPicPr>
        <p:blipFill>
          <a:blip r:embed="rId3"/>
          <a:stretch/>
        </p:blipFill>
        <p:spPr>
          <a:xfrm>
            <a:off x="755640" y="2133720"/>
            <a:ext cx="1008000" cy="7588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0"/>
          <p:cNvSpPr/>
          <p:nvPr/>
        </p:nvSpPr>
        <p:spPr>
          <a:xfrm>
            <a:off x="826920" y="3141720"/>
            <a:ext cx="720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циональн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орона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86,7 тыс.руб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0,2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1" descr="2-02"/>
          <p:cNvPicPr/>
          <p:nvPr/>
        </p:nvPicPr>
        <p:blipFill>
          <a:blip r:embed="rId4"/>
          <a:stretch/>
        </p:blipFill>
        <p:spPr>
          <a:xfrm>
            <a:off x="1763640" y="2133720"/>
            <a:ext cx="936720" cy="7905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2"/>
          <p:cNvSpPr/>
          <p:nvPr/>
        </p:nvSpPr>
        <p:spPr>
          <a:xfrm>
            <a:off x="1692360" y="3141720"/>
            <a:ext cx="10080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циональн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опасность и правоохранительная деятельность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22,0 тыс.руб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0,2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53"/>
          <p:cNvSpPr/>
          <p:nvPr/>
        </p:nvSpPr>
        <p:spPr>
          <a:xfrm>
            <a:off x="2627280" y="3141720"/>
            <a:ext cx="936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циональн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номика -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306,7 тыс.руб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4,1 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54" descr="5076556c355cd207331189_600_400"/>
          <p:cNvPicPr/>
          <p:nvPr/>
        </p:nvPicPr>
        <p:blipFill>
          <a:blip r:embed="rId5"/>
          <a:stretch/>
        </p:blipFill>
        <p:spPr>
          <a:xfrm>
            <a:off x="2627280" y="2133720"/>
            <a:ext cx="1008000" cy="8175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5"/>
          <p:cNvSpPr/>
          <p:nvPr/>
        </p:nvSpPr>
        <p:spPr>
          <a:xfrm>
            <a:off x="3635280" y="3284640"/>
            <a:ext cx="8636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лищно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уналь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зяйство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30,0 тыс. руб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0,2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56" descr="417_image_very_large"/>
          <p:cNvPicPr/>
          <p:nvPr/>
        </p:nvPicPr>
        <p:blipFill>
          <a:blip r:embed="rId6"/>
          <a:stretch/>
        </p:blipFill>
        <p:spPr>
          <a:xfrm>
            <a:off x="3635280" y="2133720"/>
            <a:ext cx="912960" cy="912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7"/>
          <p:cNvSpPr/>
          <p:nvPr/>
        </p:nvSpPr>
        <p:spPr>
          <a:xfrm>
            <a:off x="5364000" y="3213000"/>
            <a:ext cx="935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ьтур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нематография 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5668,0 тыс. руб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8,9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8" descr="1-teatralnaya-studiya-dlya-detej-i-podrostkov"/>
          <p:cNvPicPr/>
          <p:nvPr/>
        </p:nvPicPr>
        <p:blipFill>
          <a:blip r:embed="rId7"/>
          <a:stretch/>
        </p:blipFill>
        <p:spPr>
          <a:xfrm>
            <a:off x="5364000" y="2060640"/>
            <a:ext cx="919440" cy="9349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9"/>
          <p:cNvSpPr/>
          <p:nvPr/>
        </p:nvSpPr>
        <p:spPr>
          <a:xfrm>
            <a:off x="6300720" y="3213000"/>
            <a:ext cx="865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ка 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1608,4 тыс. руб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0,5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0" descr="fef27b5b3ea42a9a86ede488e285bf2d_XL"/>
          <p:cNvPicPr/>
          <p:nvPr/>
        </p:nvPicPr>
        <p:blipFill>
          <a:blip r:embed="rId8"/>
          <a:stretch/>
        </p:blipFill>
        <p:spPr>
          <a:xfrm>
            <a:off x="6300720" y="2133720"/>
            <a:ext cx="901800" cy="7207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1"/>
          <p:cNvSpPr/>
          <p:nvPr/>
        </p:nvSpPr>
        <p:spPr>
          <a:xfrm>
            <a:off x="7093080" y="3284640"/>
            <a:ext cx="936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зическ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ьтура и спорт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852,3 тыс. руб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,2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62" descr="sport17"/>
          <p:cNvPicPr/>
          <p:nvPr/>
        </p:nvPicPr>
        <p:blipFill>
          <a:blip r:embed="rId9"/>
          <a:stretch/>
        </p:blipFill>
        <p:spPr>
          <a:xfrm>
            <a:off x="7308720" y="2133720"/>
            <a:ext cx="714600" cy="720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3"/>
          <p:cNvSpPr/>
          <p:nvPr/>
        </p:nvSpPr>
        <p:spPr>
          <a:xfrm>
            <a:off x="7956720" y="3141720"/>
            <a:ext cx="1008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бюджет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ансферт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го характера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0240,9 тыс. руб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0,1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64" descr="MoneyBagsji"/>
          <p:cNvPicPr/>
          <p:nvPr/>
        </p:nvPicPr>
        <p:blipFill>
          <a:blip r:embed="rId10"/>
          <a:stretch/>
        </p:blipFill>
        <p:spPr>
          <a:xfrm>
            <a:off x="8028000" y="2133720"/>
            <a:ext cx="792000" cy="587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6" descr="ProCity33 - рекламно - информационный портал г. Петушки - Образование дополнительное"/>
          <p:cNvPicPr/>
          <p:nvPr/>
        </p:nvPicPr>
        <p:blipFill>
          <a:blip r:embed="rId11"/>
          <a:stretch/>
        </p:blipFill>
        <p:spPr>
          <a:xfrm>
            <a:off x="4572000" y="2133720"/>
            <a:ext cx="863640" cy="7142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7"/>
          <p:cNvSpPr/>
          <p:nvPr/>
        </p:nvSpPr>
        <p:spPr>
          <a:xfrm>
            <a:off x="4500720" y="3213000"/>
            <a:ext cx="863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icrosoft YaHei"/>
              </a:rPr>
              <a:t>Образов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Microsoft YaHe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28110,6 </a:t>
            </a:r>
            <a:r>
              <a:rPr b="0" lang="ru-RU" sz="1400" spc="-1" strike="noStrike">
                <a:solidFill>
                  <a:srgbClr val="000000"/>
                </a:solidFill>
                <a:latin typeface="Microsoft YaHei"/>
              </a:rPr>
              <a:t>тыс.ру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Microsoft YaHei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7,4</a:t>
            </a:r>
            <a:r>
              <a:rPr b="0" lang="ru-RU" sz="1400" spc="-1" strike="noStrike">
                <a:solidFill>
                  <a:srgbClr val="000000"/>
                </a:solidFill>
                <a:latin typeface="Microsoft YaHei"/>
              </a:rPr>
              <a:t>%)</a:t>
            </a:r>
            <a:r>
              <a:rPr b="0" lang="ru-RU" sz="1400" spc="-1" strike="noStrike">
                <a:solidFill>
                  <a:srgbClr val="ffffff"/>
                </a:solidFill>
                <a:latin typeface="Microsoft YaHe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9"/>
          <p:cNvGraphicFramePr/>
          <p:nvPr/>
        </p:nvGraphicFramePr>
        <p:xfrm>
          <a:off x="179280" y="1413000"/>
          <a:ext cx="8693280" cy="59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693280" cy="59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764640"/>
            <a:ext cx="80010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Бюджет Варгашинского района – это социальный бюджет. Об этом свидетельствует и динамика бюджетных расход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Coat_of_Arms_of_Vargachinskiy_rayon_(Kurganskaya_oblast)"/>
          <p:cNvPicPr/>
          <p:nvPr/>
        </p:nvPicPr>
        <p:blipFill>
          <a:blip r:embed="rId3"/>
          <a:stretch/>
        </p:blipFill>
        <p:spPr>
          <a:xfrm>
            <a:off x="0" y="0"/>
            <a:ext cx="684360" cy="620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0"/>
          <p:cNvSpPr/>
          <p:nvPr/>
        </p:nvSpPr>
        <p:spPr>
          <a:xfrm>
            <a:off x="1143000" y="549360"/>
            <a:ext cx="8001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инамика расходов  бюджета Варгашинского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4067280" y="6289560"/>
            <a:ext cx="46879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се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7531,5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тыс. ру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4:10:59Z</dcterms:created>
  <dc:creator>Admins</dc:creator>
  <dc:description/>
  <dc:language>en-US</dc:language>
  <cp:lastModifiedBy>raifo450315</cp:lastModifiedBy>
  <cp:lastPrinted>2014-05-20T10:21:26Z</cp:lastPrinted>
  <dcterms:modified xsi:type="dcterms:W3CDTF">2016-03-11T06:19:41Z</dcterms:modified>
  <cp:revision>897</cp:revision>
  <dc:subject/>
  <dc:title>Презентация PowerPoint</dc:title>
</cp:coreProperties>
</file>