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37.jpeg" ContentType="image/jpeg"/>
  <Override PartName="/ppt/media/image27.jpeg" ContentType="image/jpeg"/>
  <Override PartName="/ppt/media/image13.wmf" ContentType="image/x-wmf"/>
  <Override PartName="/ppt/media/image26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2.wmf" ContentType="image/x-wmf"/>
  <Override PartName="/ppt/media/image4.wmf" ContentType="image/x-wmf"/>
  <Override PartName="/ppt/media/image9.png" ContentType="image/png"/>
  <Override PartName="/ppt/media/image34.png" ContentType="image/png"/>
  <Override PartName="/ppt/media/image40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wmf" ContentType="image/x-wmf"/>
  <Override PartName="/ppt/media/image42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1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84984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3849480" y="9430920"/>
            <a:ext cx="29430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6B18D-A29A-466C-A09D-BF5DE3A0E5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A891B-5B44-42CF-B783-EA9CF966474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9396A-34AE-4D2F-AD23-D1CF2C939AD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06B77-80BC-4DF5-9338-FD0A4E39B4D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2592B-9823-4E18-A973-8961BCE43F7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D3CAD-1612-4F2B-9BF2-BCBBC94B58B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BBD30-349F-49FE-8FDB-661891D9B0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BFA6C-D4ED-4490-8A33-CC7CA8631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3EE2C-33F6-4772-9A16-DADC7EB0E21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F42F8-4AC4-4880-BC9F-B55619D331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4B021-A227-4C80-BD47-3918AF79B3D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4E863-B2F9-4F9B-A331-D112C0A82E0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45A31-8C69-43C8-99B3-3F400F2284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6BB30-5426-4C24-A655-FAF140DBED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719D1-476C-48E8-8F19-D0A05348CA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FF2BB-E35B-4B35-A2A1-22CAEE232C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8A45C-5BC7-4B67-810E-64185B9E645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E202D-B238-4443-84D8-AD623135CB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502E1-7FA2-4875-A517-824FE3677E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149E8-EDBD-41B1-8885-1720A816AD2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довой отчет об исполн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004C4-ABA6-4868-B672-E285B71861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C7FBC-9EC3-412E-A68C-2CE93A7853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E68E5-4E5B-4B97-9372-488826CA695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72A5D-552B-4A29-8D06-376251B40F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6141A-4069-47A3-8F0D-307EA6654A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218A2-BDE4-4962-98F6-7D2EA31324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EF589-FCC2-4332-B01F-7BC8DE3F9E9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1E1FA-CD92-459F-A22D-FC29E4F5812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B26-A10D-42C0-87F9-00296417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F83-7959-4BCE-88D8-4D4C8AF3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083-0151-4852-865C-93EA6139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DE3-0186-4978-910E-903E29A4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6CC1-E838-4792-88FB-2DE042FC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48EA-CB3E-45DF-AD5C-C0476277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D269-360A-40FC-956B-7C732703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3B1D-AF14-4451-AE9F-2428D8C0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4F0B-B0B7-4AA0-9714-81BFAAD9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697B-1440-422E-BE71-E07C20FB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4329-BF78-4FD7-B767-43A89D04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778-23C7-4793-B6D1-3D9E9CEF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76AB-3FC9-4DAD-B0AB-6BD41E0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D434-7B81-4576-AE12-7F20A69C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B88C-C82F-41C3-9592-28B44A58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443-EEF9-467B-A5CD-0D22F7F1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FEBD-AC67-449E-88BC-286F2D2D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08F-C8D3-4FF2-86F5-38937FDC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ADE-E729-46CC-8AC3-48B57822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CDB-DCF3-4F01-AF63-EE68410B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BDD-5615-41A1-9911-6210DD2D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353-55E9-40F2-879D-8D634767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238-1CDA-4951-8CAB-1EE24B1D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B59-B500-4EF7-8DB4-598FE350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C0F034-30E3-4F29-B444-2D832162F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902C15-7EC5-40AA-BF98-5D9619A18EE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jpeg"/><Relationship Id="rId9" Type="http://schemas.openxmlformats.org/officeDocument/2006/relationships/image" Target="../media/image38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b48e"/>
            </a:gs>
            <a:gs pos="100000">
              <a:srgbClr val="ef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0" y="266688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82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ргашинский рай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spcBef>
                <a:spcPts val="82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Отчет об исполнен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бюджета</a:t>
            </a: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 Варгашинского района</a:t>
            </a: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 за 201</a:t>
            </a: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 г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6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3564000" y="189000"/>
            <a:ext cx="216036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6"/>
          <p:cNvSpPr/>
          <p:nvPr/>
        </p:nvSpPr>
        <p:spPr>
          <a:xfrm>
            <a:off x="-324000" y="1484280"/>
            <a:ext cx="1306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Объект 1"/>
          <p:cNvGraphicFramePr/>
          <p:nvPr/>
        </p:nvGraphicFramePr>
        <p:xfrm>
          <a:off x="-15840" y="620640"/>
          <a:ext cx="9159840" cy="64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40" y="620640"/>
                    <a:ext cx="9159840" cy="64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8"/>
          <p:cNvSpPr/>
          <p:nvPr/>
        </p:nvSpPr>
        <p:spPr>
          <a:xfrm>
            <a:off x="685800" y="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расходы бюджета Варгашинского района за 2014 год, сформированные по экономическому содерж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95280" y="620640"/>
            <a:ext cx="4284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бюджета Варгашинского района в 2014 году на каждого жителя района составили 20 371 рубл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68436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5"/>
          <p:cNvGraphicFramePr/>
          <p:nvPr/>
        </p:nvGraphicFramePr>
        <p:xfrm>
          <a:off x="179280" y="1628640"/>
          <a:ext cx="875196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75196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33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ы бюджета Варгашинского района на  образование на каждого жителя района  в 2014 году составили  11991 руб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5829120"/>
            <a:ext cx="80010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ходы  бюджета Варгашинского района на общее образование на каждого обучающегося района в 2014 году составили 71,1 тыс. рублей с ростом к уровню 2013 года на 5,4 тыс. рублей или 8,2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324000" y="2708280"/>
            <a:ext cx="107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го 237209,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788000" y="299736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го 229245,9 тыс.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7"/>
          <p:cNvSpPr/>
          <p:nvPr/>
        </p:nvSpPr>
        <p:spPr>
          <a:xfrm>
            <a:off x="4879800" y="765000"/>
            <a:ext cx="35546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0" t="7133" r="0" b="0"/>
          <a:stretch/>
        </p:blipFill>
        <p:spPr>
          <a:xfrm>
            <a:off x="5813280" y="4076640"/>
            <a:ext cx="2935440" cy="18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214200" y="928800"/>
          <a:ext cx="4500720" cy="2479680"/>
        </p:xfrm>
        <a:graphic>
          <a:graphicData uri="http://schemas.openxmlformats.org/drawingml/2006/table">
            <a:tbl>
              <a:tblPr/>
              <a:tblGrid>
                <a:gridCol w="3256200"/>
                <a:gridCol w="1244520"/>
              </a:tblGrid>
              <a:tr h="11509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 20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у 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8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детей отдохнули и прошли лечение в организациях на территории област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дых в лагерях дневного пребы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</a:tr>
              <a:tr h="442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дых в загородных оздоровительных лагерях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</a:tr>
              <a:tr h="44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дых детей, находящихся в трудной жизненной ситу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8" name="Picture 8" descr="Coat_of_Arms_of_Vargachinskiy_rayon_(Kurganskaya_oblast)"/>
          <p:cNvPicPr/>
          <p:nvPr/>
        </p:nvPicPr>
        <p:blipFill>
          <a:blip r:embed="rId2"/>
          <a:stretch/>
        </p:blipFill>
        <p:spPr>
          <a:xfrm>
            <a:off x="0" y="0"/>
            <a:ext cx="85716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Диаграмма 12"/>
          <p:cNvGraphicFramePr/>
          <p:nvPr/>
        </p:nvGraphicFramePr>
        <p:xfrm>
          <a:off x="217440" y="3497400"/>
          <a:ext cx="5240520" cy="3411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0" name="Диаграмма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440" y="3497400"/>
                    <a:ext cx="524052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Диаграмма 9"/>
          <p:cNvGraphicFramePr/>
          <p:nvPr/>
        </p:nvGraphicFramePr>
        <p:xfrm>
          <a:off x="4732200" y="711360"/>
          <a:ext cx="4470480" cy="2844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2" name="Диаграмма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2200" y="711360"/>
                    <a:ext cx="44704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26"/>
          <p:cNvSpPr/>
          <p:nvPr/>
        </p:nvSpPr>
        <p:spPr>
          <a:xfrm>
            <a:off x="900000" y="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отдыха и оздоровлени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"/>
          <p:cNvGrpSpPr/>
          <p:nvPr/>
        </p:nvGrpSpPr>
        <p:grpSpPr>
          <a:xfrm>
            <a:off x="6532560" y="1989000"/>
            <a:ext cx="2611440" cy="2263680"/>
            <a:chOff x="6532560" y="1989000"/>
            <a:chExt cx="2611440" cy="2263680"/>
          </a:xfrm>
        </p:grpSpPr>
        <p:pic>
          <p:nvPicPr>
            <p:cNvPr id="195" name="Picture 2" descr=""/>
            <p:cNvPicPr/>
            <p:nvPr/>
          </p:nvPicPr>
          <p:blipFill>
            <a:blip r:embed="rId1"/>
            <a:stretch/>
          </p:blipFill>
          <p:spPr>
            <a:xfrm>
              <a:off x="6532560" y="1989000"/>
              <a:ext cx="2611440" cy="22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3"/>
            <p:cNvSpPr/>
            <p:nvPr/>
          </p:nvSpPr>
          <p:spPr>
            <a:xfrm>
              <a:off x="7154640" y="2085840"/>
              <a:ext cx="1793880" cy="20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ещение процента   ипотечного кредита преподавателя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,5тыс.  руб.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Group 4"/>
          <p:cNvGrpSpPr/>
          <p:nvPr/>
        </p:nvGrpSpPr>
        <p:grpSpPr>
          <a:xfrm>
            <a:off x="0" y="1989000"/>
            <a:ext cx="2867040" cy="2251080"/>
            <a:chOff x="0" y="1989000"/>
            <a:chExt cx="2867040" cy="2251080"/>
          </a:xfrm>
        </p:grpSpPr>
        <p:pic>
          <p:nvPicPr>
            <p:cNvPr id="19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989000"/>
              <a:ext cx="28670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6"/>
            <p:cNvSpPr/>
            <p:nvPr/>
          </p:nvSpPr>
          <p:spPr>
            <a:xfrm>
              <a:off x="144360" y="2085840"/>
              <a:ext cx="21002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оставление субсид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лодым семья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молодым специалистам, проживающим в сельской местности  на приобретение строительство)         жилья 1586,0тыс.руб.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7"/>
          <p:cNvGrpSpPr/>
          <p:nvPr/>
        </p:nvGrpSpPr>
        <p:grpSpPr>
          <a:xfrm>
            <a:off x="5767560" y="4681440"/>
            <a:ext cx="3276360" cy="1490760"/>
            <a:chOff x="5767560" y="4681440"/>
            <a:chExt cx="3276360" cy="1490760"/>
          </a:xfrm>
        </p:grpSpPr>
        <p:pic>
          <p:nvPicPr>
            <p:cNvPr id="201" name="Picture 8" descr=""/>
            <p:cNvPicPr/>
            <p:nvPr/>
          </p:nvPicPr>
          <p:blipFill>
            <a:blip r:embed="rId3"/>
            <a:stretch/>
          </p:blipFill>
          <p:spPr>
            <a:xfrm>
              <a:off x="5767560" y="4681440"/>
              <a:ext cx="327636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9"/>
            <p:cNvSpPr/>
            <p:nvPr/>
          </p:nvSpPr>
          <p:spPr>
            <a:xfrm>
              <a:off x="6195960" y="4778280"/>
              <a:ext cx="273384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оставление субсидий по обеспечению жильем молодых семей  3232,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с.руб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10"/>
          <p:cNvGrpSpPr/>
          <p:nvPr/>
        </p:nvGrpSpPr>
        <p:grpSpPr>
          <a:xfrm>
            <a:off x="133200" y="4681440"/>
            <a:ext cx="3040200" cy="1490760"/>
            <a:chOff x="133200" y="4681440"/>
            <a:chExt cx="3040200" cy="1490760"/>
          </a:xfrm>
        </p:grpSpPr>
        <p:pic>
          <p:nvPicPr>
            <p:cNvPr id="204" name="Picture 11" descr=""/>
            <p:cNvPicPr/>
            <p:nvPr/>
          </p:nvPicPr>
          <p:blipFill>
            <a:blip r:embed="rId4"/>
            <a:stretch/>
          </p:blipFill>
          <p:spPr>
            <a:xfrm>
              <a:off x="133200" y="4681440"/>
              <a:ext cx="304020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2"/>
            <p:cNvSpPr/>
            <p:nvPr/>
          </p:nvSpPr>
          <p:spPr>
            <a:xfrm>
              <a:off x="250920" y="4781520"/>
              <a:ext cx="242388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оставление субсид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 строительство (приобретение)  жилья граждан, проживающих в сельской местности</a:t>
              </a:r>
              <a:br>
                <a:rPr sz="1200"/>
              </a:b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33,0тыс,руб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13"/>
          <p:cNvGrpSpPr/>
          <p:nvPr/>
        </p:nvGrpSpPr>
        <p:grpSpPr>
          <a:xfrm>
            <a:off x="3078000" y="3760920"/>
            <a:ext cx="2918160" cy="1722240"/>
            <a:chOff x="3078000" y="3760920"/>
            <a:chExt cx="2918160" cy="1722240"/>
          </a:xfrm>
        </p:grpSpPr>
        <p:pic>
          <p:nvPicPr>
            <p:cNvPr id="207" name="Picture 14" descr=""/>
            <p:cNvPicPr/>
            <p:nvPr/>
          </p:nvPicPr>
          <p:blipFill>
            <a:blip r:embed="rId5"/>
            <a:stretch/>
          </p:blipFill>
          <p:spPr>
            <a:xfrm>
              <a:off x="3078000" y="3760920"/>
              <a:ext cx="2918160" cy="17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5"/>
            <p:cNvSpPr/>
            <p:nvPr/>
          </p:nvSpPr>
          <p:spPr>
            <a:xfrm>
              <a:off x="3303720" y="3963960"/>
              <a:ext cx="246384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а улучшение жилищных условий граждан в 201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году  направлено всего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9881,5тыс.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руб., 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9" name="Picture 25" descr=""/>
          <p:cNvPicPr/>
          <p:nvPr/>
        </p:nvPicPr>
        <p:blipFill>
          <a:blip r:embed="rId6"/>
          <a:stretch/>
        </p:blipFill>
        <p:spPr>
          <a:xfrm>
            <a:off x="1440" y="-19080"/>
            <a:ext cx="9144000" cy="65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"/>
          <p:cNvPicPr/>
          <p:nvPr/>
        </p:nvPicPr>
        <p:blipFill>
          <a:blip r:embed="rId7"/>
          <a:stretch/>
        </p:blipFill>
        <p:spPr>
          <a:xfrm>
            <a:off x="106200" y="9360"/>
            <a:ext cx="720720" cy="508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"/>
          <p:cNvPicPr/>
          <p:nvPr/>
        </p:nvPicPr>
        <p:blipFill>
          <a:blip r:embed="rId8"/>
          <a:stretch/>
        </p:blipFill>
        <p:spPr>
          <a:xfrm>
            <a:off x="3254400" y="1916280"/>
            <a:ext cx="2627280" cy="17938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28"/>
          <p:cNvGrpSpPr/>
          <p:nvPr/>
        </p:nvGrpSpPr>
        <p:grpSpPr>
          <a:xfrm>
            <a:off x="2916360" y="549000"/>
            <a:ext cx="3184560" cy="1422360"/>
            <a:chOff x="2916360" y="549000"/>
            <a:chExt cx="3184560" cy="1422360"/>
          </a:xfrm>
        </p:grpSpPr>
        <p:pic>
          <p:nvPicPr>
            <p:cNvPr id="213" name="Picture 29" descr=""/>
            <p:cNvPicPr/>
            <p:nvPr/>
          </p:nvPicPr>
          <p:blipFill>
            <a:blip r:embed="rId9"/>
            <a:stretch/>
          </p:blipFill>
          <p:spPr>
            <a:xfrm rot="10800000">
              <a:off x="2916360" y="548640"/>
              <a:ext cx="318456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30"/>
            <p:cNvSpPr/>
            <p:nvPr/>
          </p:nvSpPr>
          <p:spPr>
            <a:xfrm flipV="1" rot="5400000">
              <a:off x="4052880" y="-360000"/>
              <a:ext cx="866520" cy="28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5" name="Picture 8" descr="Coat_of_Arms_of_Vargachinskiy_rayon_(Kurganskaya_oblast)"/>
          <p:cNvPicPr/>
          <p:nvPr/>
        </p:nvPicPr>
        <p:blipFill>
          <a:blip r:embed="rId10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8"/>
          <p:cNvSpPr/>
          <p:nvPr/>
        </p:nvSpPr>
        <p:spPr>
          <a:xfrm>
            <a:off x="2987640" y="69228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жильем детей-сирот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детей, оставшихся без попечения родител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892,0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4920" y="907920"/>
          <a:ext cx="9077400" cy="5185080"/>
        </p:xfrm>
        <a:graphic>
          <a:graphicData uri="http://schemas.openxmlformats.org/drawingml/2006/table">
            <a:tbl>
              <a:tblPr/>
              <a:tblGrid>
                <a:gridCol w="6337440"/>
                <a:gridCol w="1584360"/>
                <a:gridCol w="1155600"/>
              </a:tblGrid>
              <a:tr h="110988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 меры социальной поддержк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Число получателе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ходы за 20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г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4124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жемесячная выплата приемной семье на содержание подопечных дете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20,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4124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жемесячное вознаграждение опекунов (попечителей), приемных родителе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72,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4160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жемесячная выплата семьям опекунов на содержание подопечных дете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90,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10952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диновременные денежные пособия при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Microsoft YaHei"/>
                          <a:ea typeface="Microsoft YaHei"/>
                        </a:rPr>
                        <a:t>всех формах устройства детей, лишенных родительского попечения, в семью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4160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сег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09,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pic>
        <p:nvPicPr>
          <p:cNvPr id="218" name="Picture 8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ходы на охрану семьи и детства, тыс.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79280" y="1125360"/>
          <a:ext cx="8640720" cy="1571760"/>
        </p:xfrm>
        <a:graphic>
          <a:graphicData uri="http://schemas.openxmlformats.org/drawingml/2006/table">
            <a:tbl>
              <a:tblPr/>
              <a:tblGrid>
                <a:gridCol w="7129440"/>
                <a:gridCol w="1511280"/>
              </a:tblGrid>
              <a:tr h="648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сходы за 20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23760">
                <a:tc>
                  <a:txBody>
                    <a:bodyPr lIns="8640" rIns="8640" tIns="8640" bIns="0" anchor="ctr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едоставление мер социальной поддержки лицам, проживающим и работающим в сельской местности и в рабочих посёлках (посёлках городского тип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pic>
        <p:nvPicPr>
          <p:cNvPr id="221" name="Picture 8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7480" y="299520"/>
            <a:ext cx="78962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Меры социальной поддержки лицам, проживающим и работающим в сельской местности и в рабочих поселках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3" descr="367377_uchitel_uchenik_znanie_1500x1391_(www"/>
          <p:cNvPicPr/>
          <p:nvPr/>
        </p:nvPicPr>
        <p:blipFill>
          <a:blip r:embed="rId2"/>
          <a:stretch/>
        </p:blipFill>
        <p:spPr>
          <a:xfrm>
            <a:off x="684360" y="3357720"/>
            <a:ext cx="3078000" cy="2854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4" descr="high-sch1"/>
          <p:cNvPicPr/>
          <p:nvPr/>
        </p:nvPicPr>
        <p:blipFill>
          <a:blip r:embed="rId3"/>
          <a:stretch/>
        </p:blipFill>
        <p:spPr>
          <a:xfrm>
            <a:off x="4427640" y="2997360"/>
            <a:ext cx="3898800" cy="32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Диаграмма 3"/>
          <p:cNvGraphicFramePr/>
          <p:nvPr/>
        </p:nvGraphicFramePr>
        <p:xfrm>
          <a:off x="536400" y="2119320"/>
          <a:ext cx="8099640" cy="48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2119320"/>
                    <a:ext cx="80996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857160" cy="836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010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Межбюджетные трансферты бюджетам поселений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468360" y="981000"/>
            <a:ext cx="799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а межбюджетных трансфертов бюджетам поселений была направлена в 2014 году на финансовое обеспечение первоочередных расходов, связанных с выплатой заработной платы, оплатой коммунальных услуг, социальным обеспече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3008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ошюра подготовлена Финансовым отделом Администрации Варгашинского района Курга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.Чкалова,22,  рп. Варгаши,  641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фон (8-35233) 2-06-45, фа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8-35233) 2-0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-mail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fo4503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Coat_of_Arms_of_Vargachinskiy_rayon_(Kurganskaya_oblast)"/>
          <p:cNvPicPr/>
          <p:nvPr/>
        </p:nvPicPr>
        <p:blipFill>
          <a:blip r:embed="rId2"/>
          <a:stretch/>
        </p:blipFill>
        <p:spPr>
          <a:xfrm>
            <a:off x="0" y="0"/>
            <a:ext cx="857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18960" y="620640"/>
            <a:ext cx="8712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граждане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ители поселка и района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ной из главных задач, которые мы поставили перед собой, является обеспечение открытости и прозрачности нашей деятельности. Для нас важно, чтобы Вы не только знали, на что тратятся бюджетные средства и какие направления в  бюджете Варгашинского района наиболее значимы, но и принимали участие в формировании этих приорит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Варгашинского района сохраняет свою социальную направленность, сегодня уделяется большое внимание развитию социальной инфраструктуры, благоустройству, улучшению жилищных усло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Бюджет для граждан» разработан для повышения прозрачности и открытости бюджета и бюджетного процесса на основании Бюджетного послания Президента РФ. Публикуемая в этом разделе информация, поможет вам, уважаемые граждане, разобраться в непростом бюджетном вопросе и сделать выводы об эффективности бюджетных расходов. Ваше участие поможет нам акцентировать внимание на наиболее острых проблемах и рассмотреть возможности направления бюджетных ресурсов на их ре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269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17600" y="1916280"/>
            <a:ext cx="87264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финансирования дефицита  бюдж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63640" cy="836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1187280" y="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бюджета Варгашин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й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Text Box 4"/>
          <p:cNvGrpSpPr/>
          <p:nvPr/>
        </p:nvGrpSpPr>
        <p:grpSpPr>
          <a:xfrm>
            <a:off x="-195120" y="652320"/>
            <a:ext cx="9478800" cy="2200320"/>
            <a:chOff x="-195120" y="652320"/>
            <a:chExt cx="9478800" cy="2200320"/>
          </a:xfrm>
        </p:grpSpPr>
        <p:pic>
          <p:nvPicPr>
            <p:cNvPr id="100" name="Text Box 4" descr=""/>
            <p:cNvPicPr/>
            <p:nvPr/>
          </p:nvPicPr>
          <p:blipFill>
            <a:blip r:embed="rId1"/>
            <a:stretch/>
          </p:blipFill>
          <p:spPr>
            <a:xfrm>
              <a:off x="-195120" y="652320"/>
              <a:ext cx="947880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792000"/>
              <a:ext cx="9144000" cy="18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довой отчет об исполнении  бюджета Варгашинского района за 2014 год составлен 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ответствии с положениями Бюджетного кодекса Российской Федерации, решени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ргашинской районной Думы «О бюджетном процессе в Варгашинском районе», и «О бюджет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ргашинского района на 2014 год и на плановый период 2015 и 2016 годов»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 учетом внесенных изменени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Picture 10" descr="Coat_of_Arms_of_Vargachinskiy_rayon_(Kurganskaya_oblast)"/>
          <p:cNvPicPr/>
          <p:nvPr/>
        </p:nvPicPr>
        <p:blipFill>
          <a:blip r:embed="rId2"/>
          <a:stretch/>
        </p:blipFill>
        <p:spPr>
          <a:xfrm>
            <a:off x="0" y="0"/>
            <a:ext cx="826920" cy="79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сновные параметры бюджета Варгашинского рай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63320" y="3379320"/>
            <a:ext cx="7210440" cy="16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324000" y="2565360"/>
          <a:ext cx="8413560" cy="460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565360"/>
                    <a:ext cx="84135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6154560" y="1700280"/>
            <a:ext cx="2989080" cy="5472000"/>
            <a:chOff x="6154560" y="1700280"/>
            <a:chExt cx="2989080" cy="5472000"/>
          </a:xfrm>
        </p:grpSpPr>
        <p:pic>
          <p:nvPicPr>
            <p:cNvPr id="108" name="Picture 6" descr=""/>
            <p:cNvPicPr/>
            <p:nvPr/>
          </p:nvPicPr>
          <p:blipFill>
            <a:blip r:embed="rId1"/>
            <a:stretch/>
          </p:blipFill>
          <p:spPr>
            <a:xfrm>
              <a:off x="6154560" y="1700280"/>
              <a:ext cx="2989080" cy="54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6255360" y="1931040"/>
              <a:ext cx="2888280" cy="48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Calibri"/>
                </a:rPr>
                <a:t>	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Из областного бюджета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- дотации на выравнивание бюджетной обеспеченности муниципальных районов и на обеспечение сбалансированности бюджетов 104562,0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тыс.руб.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- субсидии  43075,9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тыс..руб.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- субвенции 164955,3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тыс. руб.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иные межбюджетные трансферты 6724,5 тыс.руб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Доходы бюджетов муниципальных районов от возвратов остатков субсидий, субвенций и иных межбюджетных трансфертов прошлых лет из бюджетов поселений – 189,4 тыс.руб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возврат остатков  межбюджетных трансфертов прошлых лет 189,4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тыс. руб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От бюджетов поселений на осуществление части полномочий  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17648,1 тыс.руб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6516720" y="765000"/>
            <a:ext cx="2627280" cy="1249200"/>
            <a:chOff x="6516720" y="765000"/>
            <a:chExt cx="2627280" cy="1249200"/>
          </a:xfrm>
        </p:grpSpPr>
        <p:pic>
          <p:nvPicPr>
            <p:cNvPr id="111" name="Picture 15" descr=""/>
            <p:cNvPicPr/>
            <p:nvPr/>
          </p:nvPicPr>
          <p:blipFill>
            <a:blip r:embed="rId2"/>
            <a:stretch/>
          </p:blipFill>
          <p:spPr>
            <a:xfrm>
              <a:off x="6516720" y="765000"/>
              <a:ext cx="26272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6"/>
            <p:cNvSpPr/>
            <p:nvPr/>
          </p:nvSpPr>
          <p:spPr>
            <a:xfrm>
              <a:off x="6516720" y="874800"/>
              <a:ext cx="254268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БЕЗВОЗМЕЗДНЫЕ ПЕРЕЧИСЛЕНИЯ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36965,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ыс.руб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 Box 18"/>
          <p:cNvSpPr/>
          <p:nvPr/>
        </p:nvSpPr>
        <p:spPr>
          <a:xfrm>
            <a:off x="3132000" y="1628640"/>
            <a:ext cx="2921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А ВАРГАШИ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89074,3,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9" descr=""/>
          <p:cNvPicPr/>
          <p:nvPr/>
        </p:nvPicPr>
        <p:blipFill>
          <a:blip r:embed="rId3"/>
          <a:stretch/>
        </p:blipFill>
        <p:spPr>
          <a:xfrm>
            <a:off x="196920" y="784080"/>
            <a:ext cx="2879640" cy="178920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0"/>
          <p:cNvGrpSpPr/>
          <p:nvPr/>
        </p:nvGrpSpPr>
        <p:grpSpPr>
          <a:xfrm>
            <a:off x="250920" y="2565360"/>
            <a:ext cx="2977920" cy="703080"/>
            <a:chOff x="250920" y="2565360"/>
            <a:chExt cx="2977920" cy="703080"/>
          </a:xfrm>
        </p:grpSpPr>
        <p:pic>
          <p:nvPicPr>
            <p:cNvPr id="116" name="Picture 21" descr=""/>
            <p:cNvPicPr/>
            <p:nvPr/>
          </p:nvPicPr>
          <p:blipFill>
            <a:blip r:embed="rId4"/>
            <a:stretch/>
          </p:blipFill>
          <p:spPr>
            <a:xfrm>
              <a:off x="250920" y="2565360"/>
              <a:ext cx="297792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/>
            <p:cNvSpPr/>
            <p:nvPr/>
          </p:nvSpPr>
          <p:spPr>
            <a:xfrm>
              <a:off x="307800" y="2624040"/>
              <a:ext cx="28602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СОБСТВЕННЫЕ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2 108,5 тыс.руб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0" y="3284640"/>
            <a:ext cx="3634920" cy="3357000"/>
            <a:chOff x="0" y="3284640"/>
            <a:chExt cx="3634920" cy="3357000"/>
          </a:xfrm>
        </p:grpSpPr>
        <p:pic>
          <p:nvPicPr>
            <p:cNvPr id="119" name="Picture 24" descr=""/>
            <p:cNvPicPr/>
            <p:nvPr/>
          </p:nvPicPr>
          <p:blipFill>
            <a:blip r:embed="rId5"/>
            <a:stretch/>
          </p:blipFill>
          <p:spPr>
            <a:xfrm>
              <a:off x="0" y="3284640"/>
              <a:ext cx="3634920" cy="33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25"/>
            <p:cNvSpPr/>
            <p:nvPr/>
          </p:nvSpPr>
          <p:spPr>
            <a:xfrm>
              <a:off x="160560" y="3449160"/>
              <a:ext cx="3313440" cy="30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лог на доходы физических лиц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3518,2 тыс.руб.. руб.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диный налог на вмененный доход 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4405,9 тыс. руб.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диный сельскохозяйственный налог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686,4 тыс.руб.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оходы от использования имущества, находящегося в муниципальной собственности 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2326,2 тыс. ру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ругие налоговые и неналоговые доходы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1171,8 тыс. руб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541800" y="-752760"/>
            <a:ext cx="11377800" cy="15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бюджета Варгашинского района  за  201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2" descr="Coat_of_Arms_of_Vargachinskiy_rayon_(Kurganskaya_oblast)"/>
          <p:cNvPicPr/>
          <p:nvPr/>
        </p:nvPicPr>
        <p:blipFill>
          <a:blip r:embed="rId6"/>
          <a:stretch/>
        </p:blipFill>
        <p:spPr>
          <a:xfrm>
            <a:off x="0" y="0"/>
            <a:ext cx="792000" cy="76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Объект 2"/>
          <p:cNvGraphicFramePr/>
          <p:nvPr/>
        </p:nvGraphicFramePr>
        <p:xfrm>
          <a:off x="2698920" y="2924280"/>
          <a:ext cx="3957480" cy="31654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4" name="Объект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98920" y="2924280"/>
                    <a:ext cx="395748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4"/>
          <p:cNvGraphicFramePr/>
          <p:nvPr/>
        </p:nvGraphicFramePr>
        <p:xfrm>
          <a:off x="971640" y="189000"/>
          <a:ext cx="735012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9000"/>
                    <a:ext cx="735012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22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86364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597708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сего 389074,3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1"/>
          <p:cNvGraphicFramePr/>
          <p:nvPr/>
        </p:nvGraphicFramePr>
        <p:xfrm>
          <a:off x="3367080" y="333360"/>
          <a:ext cx="5776920" cy="60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7080" y="333360"/>
                    <a:ext cx="577692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2"/>
          <p:cNvGraphicFramePr/>
          <p:nvPr/>
        </p:nvGraphicFramePr>
        <p:xfrm>
          <a:off x="0" y="907920"/>
          <a:ext cx="5384880" cy="54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07920"/>
                    <a:ext cx="5384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Line 6"/>
          <p:cNvSpPr/>
          <p:nvPr/>
        </p:nvSpPr>
        <p:spPr>
          <a:xfrm flipV="1">
            <a:off x="3187800" y="762120"/>
            <a:ext cx="2162160" cy="18698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1" descr="Coat_of_Arms_of_Vargachinskiy_rayon_(Kurganskaya_oblast)"/>
          <p:cNvPicPr/>
          <p:nvPr/>
        </p:nvPicPr>
        <p:blipFill>
          <a:blip r:embed="rId5"/>
          <a:stretch/>
        </p:blipFill>
        <p:spPr>
          <a:xfrm>
            <a:off x="0" y="0"/>
            <a:ext cx="865080" cy="6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928800" y="-244440"/>
            <a:ext cx="8001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труктура доходов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юджета Варгашинского района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в 201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году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5796000" y="2133720"/>
            <a:ext cx="136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435640" y="4292640"/>
            <a:ext cx="136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6084720" y="4724280"/>
            <a:ext cx="136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508720" y="4869000"/>
            <a:ext cx="57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6084720" y="5445000"/>
            <a:ext cx="136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50920" y="836640"/>
            <a:ext cx="8675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icrosoft YaHei"/>
              </a:rPr>
              <a:t>Расходы  бюджета Варгашинского района по разделам  классификации расходов бюджета за 2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Microsoft YaHei"/>
              </a:rPr>
              <a:t>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(сумма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доля в общей сумме расходов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35"/>
          <p:cNvSpPr/>
          <p:nvPr/>
        </p:nvSpPr>
        <p:spPr>
          <a:xfrm rot="5400000">
            <a:off x="4287600" y="1984320"/>
            <a:ext cx="390600" cy="8175600"/>
          </a:xfrm>
          <a:custGeom>
            <a:avLst/>
            <a:gdLst>
              <a:gd name="textAreaLeft" fmla="*/ 0 w 390600"/>
              <a:gd name="textAreaRight" fmla="*/ 141120 w 390600"/>
              <a:gd name="textAreaTop" fmla="*/ 10080 h 8175600"/>
              <a:gd name="textAreaBottom" fmla="*/ 8165520 h 817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6"/>
                </a:cubicBezTo>
                <a:lnTo>
                  <a:pt x="10800" y="10738"/>
                </a:lnTo>
                <a:cubicBezTo>
                  <a:pt x="10800" y="10781"/>
                  <a:pt x="16200" y="10824"/>
                  <a:pt x="21600" y="10824"/>
                </a:cubicBezTo>
                <a:cubicBezTo>
                  <a:pt x="16200" y="10824"/>
                  <a:pt x="10800" y="10867"/>
                  <a:pt x="10800" y="10910"/>
                </a:cubicBezTo>
                <a:lnTo>
                  <a:pt x="10800" y="21514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2916360" y="638172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сего расходы 389455,8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1042920" cy="936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800604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сходы бюджета Варгашинского                   райо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7" descr="russiacoatofarms"/>
          <p:cNvPicPr/>
          <p:nvPr/>
        </p:nvPicPr>
        <p:blipFill>
          <a:blip r:embed="rId2"/>
          <a:stretch/>
        </p:blipFill>
        <p:spPr>
          <a:xfrm>
            <a:off x="179280" y="2133720"/>
            <a:ext cx="606600" cy="720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8"/>
          <p:cNvSpPr/>
          <p:nvPr/>
        </p:nvSpPr>
        <p:spPr>
          <a:xfrm>
            <a:off x="0" y="3068640"/>
            <a:ext cx="826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государственные вопросы 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 693,7 тыс.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6,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9" descr="5567"/>
          <p:cNvPicPr/>
          <p:nvPr/>
        </p:nvPicPr>
        <p:blipFill>
          <a:blip r:embed="rId3"/>
          <a:stretch/>
        </p:blipFill>
        <p:spPr>
          <a:xfrm>
            <a:off x="755640" y="2133720"/>
            <a:ext cx="1008000" cy="758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0"/>
          <p:cNvSpPr/>
          <p:nvPr/>
        </p:nvSpPr>
        <p:spPr>
          <a:xfrm>
            <a:off x="826920" y="3141720"/>
            <a:ext cx="72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на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72,1 тыс.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0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1" descr="2-02"/>
          <p:cNvPicPr/>
          <p:nvPr/>
        </p:nvPicPr>
        <p:blipFill>
          <a:blip r:embed="rId4"/>
          <a:stretch/>
        </p:blipFill>
        <p:spPr>
          <a:xfrm>
            <a:off x="1763640" y="2133720"/>
            <a:ext cx="936720" cy="790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2"/>
          <p:cNvSpPr/>
          <p:nvPr/>
        </p:nvSpPr>
        <p:spPr>
          <a:xfrm>
            <a:off x="1692360" y="3141720"/>
            <a:ext cx="1008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сть и правоохранительная деятельность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95,9 тыс.руб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0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3"/>
          <p:cNvSpPr/>
          <p:nvPr/>
        </p:nvSpPr>
        <p:spPr>
          <a:xfrm>
            <a:off x="2627280" y="3141720"/>
            <a:ext cx="936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ка 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221,2 тыс.руб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4,2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4" descr="5076556c355cd207331189_600_400"/>
          <p:cNvPicPr/>
          <p:nvPr/>
        </p:nvPicPr>
        <p:blipFill>
          <a:blip r:embed="rId5"/>
          <a:stretch/>
        </p:blipFill>
        <p:spPr>
          <a:xfrm>
            <a:off x="2627280" y="2133720"/>
            <a:ext cx="1008000" cy="817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5"/>
          <p:cNvSpPr/>
          <p:nvPr/>
        </p:nvSpPr>
        <p:spPr>
          <a:xfrm>
            <a:off x="3635280" y="3284640"/>
            <a:ext cx="863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лищно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ль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йство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334,8 тыс. руб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,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6" descr="417_image_very_large"/>
          <p:cNvPicPr/>
          <p:nvPr/>
        </p:nvPicPr>
        <p:blipFill>
          <a:blip r:embed="rId6"/>
          <a:stretch/>
        </p:blipFill>
        <p:spPr>
          <a:xfrm>
            <a:off x="3635280" y="213372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7"/>
          <p:cNvSpPr/>
          <p:nvPr/>
        </p:nvSpPr>
        <p:spPr>
          <a:xfrm>
            <a:off x="5364000" y="3213000"/>
            <a:ext cx="9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нематография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4145,6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8,8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8" descr="1-teatralnaya-studiya-dlya-detej-i-podrostkov"/>
          <p:cNvPicPr/>
          <p:nvPr/>
        </p:nvPicPr>
        <p:blipFill>
          <a:blip r:embed="rId7"/>
          <a:stretch/>
        </p:blipFill>
        <p:spPr>
          <a:xfrm>
            <a:off x="5364000" y="2060640"/>
            <a:ext cx="919440" cy="9349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9"/>
          <p:cNvSpPr/>
          <p:nvPr/>
        </p:nvSpPr>
        <p:spPr>
          <a:xfrm>
            <a:off x="6300720" y="3213000"/>
            <a:ext cx="86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ка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1895,4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0,8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0" descr="fef27b5b3ea42a9a86ede488e285bf2d_XL"/>
          <p:cNvPicPr/>
          <p:nvPr/>
        </p:nvPicPr>
        <p:blipFill>
          <a:blip r:embed="rId8"/>
          <a:stretch/>
        </p:blipFill>
        <p:spPr>
          <a:xfrm>
            <a:off x="6300720" y="2133720"/>
            <a:ext cx="901800" cy="720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1"/>
          <p:cNvSpPr/>
          <p:nvPr/>
        </p:nvSpPr>
        <p:spPr>
          <a:xfrm>
            <a:off x="7093080" y="3284640"/>
            <a:ext cx="936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а и спорт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854,5 тыс. руб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2" descr="sport17"/>
          <p:cNvPicPr/>
          <p:nvPr/>
        </p:nvPicPr>
        <p:blipFill>
          <a:blip r:embed="rId9"/>
          <a:stretch/>
        </p:blipFill>
        <p:spPr>
          <a:xfrm>
            <a:off x="7308720" y="2133720"/>
            <a:ext cx="71460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3"/>
          <p:cNvSpPr/>
          <p:nvPr/>
        </p:nvSpPr>
        <p:spPr>
          <a:xfrm>
            <a:off x="7956720" y="3213000"/>
            <a:ext cx="1008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нсфер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го характера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796,7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7,9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4" descr="MoneyBagsji"/>
          <p:cNvPicPr/>
          <p:nvPr/>
        </p:nvPicPr>
        <p:blipFill>
          <a:blip r:embed="rId10"/>
          <a:stretch/>
        </p:blipFill>
        <p:spPr>
          <a:xfrm>
            <a:off x="8101080" y="2133720"/>
            <a:ext cx="874800" cy="64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6" descr="ProCity33 - рекламно - информационный портал г. Петушки - Образование дополнительное"/>
          <p:cNvPicPr/>
          <p:nvPr/>
        </p:nvPicPr>
        <p:blipFill>
          <a:blip r:embed="rId11"/>
          <a:stretch/>
        </p:blipFill>
        <p:spPr>
          <a:xfrm>
            <a:off x="4572000" y="2133720"/>
            <a:ext cx="863640" cy="714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7"/>
          <p:cNvSpPr/>
          <p:nvPr/>
        </p:nvSpPr>
        <p:spPr>
          <a:xfrm>
            <a:off x="4500720" y="3284640"/>
            <a:ext cx="863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YaHei"/>
              </a:rPr>
              <a:t>Образов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Microsoft YaHe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9245,9 </a:t>
            </a:r>
            <a:r>
              <a:rPr b="0" lang="ru-RU" sz="1400" spc="-1" strike="noStrike">
                <a:solidFill>
                  <a:srgbClr val="000000"/>
                </a:solidFill>
                <a:latin typeface="Microsoft YaHei"/>
              </a:rPr>
              <a:t>тыс.руб.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8,7</a:t>
            </a:r>
            <a:r>
              <a:rPr b="0" lang="ru-RU" sz="1400" spc="-1" strike="noStrike">
                <a:solidFill>
                  <a:srgbClr val="000000"/>
                </a:solidFill>
                <a:latin typeface="Microsoft YaHei"/>
              </a:rPr>
              <a:t>%)</a:t>
            </a:r>
            <a:r>
              <a:rPr b="0" lang="ru-RU" sz="1400" spc="-1" strike="noStrike">
                <a:solidFill>
                  <a:srgbClr val="ffffff"/>
                </a:solidFill>
                <a:latin typeface="Microsoft YaHe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9"/>
          <p:cNvGraphicFramePr/>
          <p:nvPr/>
        </p:nvGraphicFramePr>
        <p:xfrm>
          <a:off x="3240" y="1422360"/>
          <a:ext cx="8874000" cy="55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22360"/>
                    <a:ext cx="887400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764640"/>
            <a:ext cx="8001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Бюджет Варгашинского района – это социальный бюджет. Об этом свидетельствует и динамика бюджетных расход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684360" cy="62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"/>
          <p:cNvSpPr/>
          <p:nvPr/>
        </p:nvSpPr>
        <p:spPr>
          <a:xfrm>
            <a:off x="1143000" y="549360"/>
            <a:ext cx="8001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намика расходов  бюджета Варгаши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067280" y="6289560"/>
            <a:ext cx="46879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9455,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тыс.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4:10:59Z</dcterms:created>
  <dc:creator>Admins</dc:creator>
  <dc:description/>
  <dc:language>en-US</dc:language>
  <cp:lastModifiedBy>raifo450315</cp:lastModifiedBy>
  <cp:lastPrinted>2014-05-20T10:21:26Z</cp:lastPrinted>
  <dcterms:modified xsi:type="dcterms:W3CDTF">2015-04-15T11:42:18Z</dcterms:modified>
  <cp:revision>863</cp:revision>
  <dc:subject/>
  <dc:title>Презентация PowerPoint</dc:title>
</cp:coreProperties>
</file>