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charts/chart1.xml" ContentType="application/vnd.openxmlformats-officedocument.drawingml.chart+xml"/>
  <Override PartName="/ppt/charts/_rels/chart6.xml.rels" ContentType="application/vnd.openxmlformats-package.relationships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4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</c:v>
                </c:pt>
                <c:pt idx="2">
                  <c:v>0.84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</c:v>
                </c:pt>
                <c:pt idx="2">
                  <c:v>0.84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2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</c:v>
                </c:pt>
                <c:pt idx="2">
                  <c:v>0.840000000000001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64375844975214"/>
          <c:y val="0.162537495833796"/>
          <c:w val="0.773095989184317"/>
          <c:h val="0.69158982335296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c0504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1f497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1f497d"/>
                        </a:solidFill>
                        <a:latin typeface="Calibri"/>
                      </a:rPr>
                      <a:t>
</a:t>
                    </a:r>
                    <a:r>
                      <a:rPr b="0" lang="en-US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1</a:t>
                    </a:r>
                    <a:r>
                      <a:rPr b="0" lang="ru-RU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7</a:t>
                    </a:r>
                    <a:r>
                      <a:rPr b="0" lang="en-US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1f497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1" lang="en-US" sz="1800" spc="-1" strike="noStrike">
                        <a:solidFill>
                          <a:srgbClr val="1f497d"/>
                        </a:solidFill>
                        <a:latin typeface="Calibri"/>
                      </a:rPr>
                      <a:t>
</a:t>
                    </a:r>
                    <a:r>
                      <a:rPr b="1" lang="en-US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8</a:t>
                    </a:r>
                    <a:r>
                      <a:rPr b="1" lang="ru-RU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3</a:t>
                    </a:r>
                    <a:r>
                      <a:rPr b="1" lang="en-US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1f497d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0"/>
          </c:dLbls>
          <c:val>
            <c:numRef>
              <c:f>0</c:f>
              <c:numCache>
                <c:formatCode>General</c:formatCode>
                <c:ptCount val="2"/>
                <c:pt idx="0">
                  <c:v>79301</c:v>
                </c:pt>
                <c:pt idx="1">
                  <c:v>490075.6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Доход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-0.00318951708702159"/>
                  <c:y val="-0.0267159709527225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"/>
                  <c:y val="-0.0327890335417277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159475854351079"/>
                  <c:y val="-0.0213849976265264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 год (фактическое исполнение)</c:v>
                </c:pt>
                <c:pt idx="1">
                  <c:v>2020 год (ожидаемое исполнение)</c:v>
                </c:pt>
                <c:pt idx="2">
                  <c:v>2021 год (прогноз)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07650.6</c:v>
                </c:pt>
                <c:pt idx="1">
                  <c:v>749104.5</c:v>
                </c:pt>
                <c:pt idx="2">
                  <c:v>490873.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асходы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574575178926887"/>
                  <c:y val="-0.021552655765521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639931397756891"/>
                  <c:y val="-0.0190625284059347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576142311731848"/>
                  <c:y val="-0.0213642928563493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 год (фактическое исполнение)</c:v>
                </c:pt>
                <c:pt idx="1">
                  <c:v>2020 год (ожидаемое исполнение)</c:v>
                </c:pt>
                <c:pt idx="2">
                  <c:v>2021 год (прогноз)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611820.8</c:v>
                </c:pt>
                <c:pt idx="1">
                  <c:v>750996.5</c:v>
                </c:pt>
                <c:pt idx="2">
                  <c:v>490873.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ефицит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218626327730666"/>
                  <c:y val="-0.025653715243760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218105205844401"/>
                  <c:y val="-0.0288604296492309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150718495231044"/>
                  <c:y val="-0.03028325135591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 год (фактическое исполнение)</c:v>
                </c:pt>
                <c:pt idx="1">
                  <c:v>2020 год (ожидаемое исполнение)</c:v>
                </c:pt>
                <c:pt idx="2">
                  <c:v>2021 год (прогноз)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4170.20000000007</c:v>
                </c:pt>
                <c:pt idx="1">
                  <c:v>1892</c:v>
                </c:pt>
                <c:pt idx="2">
                  <c:v>0</c:v>
                </c:pt>
              </c:numCache>
            </c:numRef>
          </c:val>
        </c:ser>
        <c:gapWidth val="150"/>
        <c:shape val="box"/>
        <c:axId val="28419070"/>
        <c:axId val="35990015"/>
        <c:axId val="0"/>
      </c:bar3DChart>
      <c:catAx>
        <c:axId val="2841907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35990015"/>
        <c:crosses val="autoZero"/>
        <c:auto val="1"/>
        <c:lblAlgn val="ctr"/>
        <c:lblOffset val="100"/>
        <c:noMultiLvlLbl val="0"/>
      </c:catAx>
      <c:valAx>
        <c:axId val="35990015"/>
        <c:scaling>
          <c:orientation val="minMax"/>
          <c:max val="500000"/>
          <c:min val="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28419070"/>
        <c:crosses val="autoZero"/>
        <c:crossBetween val="between"/>
        <c:majorUnit val="100000"/>
        <c:minorUnit val="10000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41699445523909"/>
          <c:y val="0.0514123823014749"/>
          <c:w val="0.692858158381119"/>
          <c:h val="0.832513957170236"/>
        </c:manualLayout>
      </c:layout>
      <c:barChart>
        <c:barDir val="col"/>
        <c:grouping val="clustered"/>
        <c:varyColors val="0"/>
        <c:ser>
          <c:idx val="0"/>
          <c:order val="0"/>
          <c:spPr>
            <a:solidFill>
              <a:srgbClr val="4f81bd"/>
            </a:solidFill>
            <a:ln w="0">
              <a:solidFill>
                <a:srgbClr val="00b05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b050"/>
              </a:solidFill>
              <a:ln w="0">
                <a:solidFill>
                  <a:srgbClr val="00b050"/>
                </a:solidFill>
              </a:ln>
            </c:spPr>
          </c:dPt>
          <c:dPt>
            <c:idx val="1"/>
            <c:invertIfNegative val="0"/>
            <c:spPr>
              <a:solidFill>
                <a:srgbClr val="558ed5"/>
              </a:solidFill>
              <a:ln w="0">
                <a:solidFill>
                  <a:srgbClr val="558ed5"/>
                </a:solidFill>
              </a:ln>
            </c:spPr>
          </c:dPt>
          <c:dPt>
            <c:idx val="2"/>
            <c:invertIfNegative val="0"/>
            <c:spPr>
              <a:solidFill>
                <a:srgbClr val="d99694"/>
              </a:solidFill>
              <a:ln w="0">
                <a:solidFill>
                  <a:srgbClr val="d99694"/>
                </a:solidFill>
              </a:ln>
            </c:spPr>
          </c:dPt>
          <c:dPt>
            <c:idx val="3"/>
            <c:invertIfNegative val="0"/>
            <c:spPr>
              <a:solidFill>
                <a:srgbClr val="77e2f7"/>
              </a:solidFill>
              <a:ln w="0">
                <a:solidFill>
                  <a:srgbClr val="77e2f7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50996.5</c:v>
                </c:pt>
                <c:pt idx="1">
                  <c:v>490873.9</c:v>
                </c:pt>
                <c:pt idx="2">
                  <c:v>491185.2</c:v>
                </c:pt>
                <c:pt idx="3">
                  <c:v>495408.2</c:v>
                </c:pt>
              </c:numCache>
            </c:numRef>
          </c:val>
        </c:ser>
        <c:gapWidth val="150"/>
        <c:overlap val="0"/>
        <c:axId val="71947447"/>
        <c:axId val="59781586"/>
      </c:barChart>
      <c:catAx>
        <c:axId val="71947447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781586"/>
        <c:auto val="1"/>
        <c:lblAlgn val="ctr"/>
        <c:lblOffset val="100"/>
        <c:noMultiLvlLbl val="0"/>
      </c:catAx>
      <c:valAx>
        <c:axId val="5978158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194744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  <c:userShapes r:id="rId1"/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Общегосударственные вопрос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966</c:v>
                </c:pt>
                <c:pt idx="1">
                  <c:v>29419</c:v>
                </c:pt>
                <c:pt idx="2">
                  <c:v>2932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ациональная экономика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701</c:v>
                </c:pt>
                <c:pt idx="1">
                  <c:v>2703</c:v>
                </c:pt>
                <c:pt idx="2">
                  <c:v>27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Образование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305161</c:v>
                </c:pt>
                <c:pt idx="1">
                  <c:v>300832</c:v>
                </c:pt>
                <c:pt idx="2">
                  <c:v>29877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Культура, кинематография</c:v>
                </c:pt>
              </c:strCache>
            </c:strRef>
          </c:tx>
          <c:spPr>
            <a:solidFill>
              <a:srgbClr val="8064a2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3"/>
                <c:pt idx="0">
                  <c:v>63413</c:v>
                </c:pt>
                <c:pt idx="1">
                  <c:v>61928</c:v>
                </c:pt>
                <c:pt idx="2">
                  <c:v>6112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Социальная политика</c:v>
                </c:pt>
              </c:strCache>
            </c:strRef>
          </c:tx>
          <c:spPr>
            <a:solidFill>
              <a:srgbClr val="4bacc6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3"/>
                <c:pt idx="0">
                  <c:v>16742</c:v>
                </c:pt>
                <c:pt idx="1">
                  <c:v>16768</c:v>
                </c:pt>
                <c:pt idx="2">
                  <c:v>16794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Остальные расходы</c:v>
                </c:pt>
              </c:strCache>
            </c:strRef>
          </c:tx>
          <c:spPr>
            <a:solidFill>
              <a:srgbClr val="f79646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1 год</c:v>
                </c:pt>
                <c:pt idx="1">
                  <c:v>2022 год</c:v>
                </c:pt>
                <c:pt idx="2">
                  <c:v>2023 год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3"/>
                <c:pt idx="0">
                  <c:v>72891</c:v>
                </c:pt>
                <c:pt idx="1">
                  <c:v>72298</c:v>
                </c:pt>
                <c:pt idx="2">
                  <c:v>71981</c:v>
                </c:pt>
              </c:numCache>
            </c:numRef>
          </c:val>
        </c:ser>
        <c:gapWidth val="38"/>
        <c:shape val="box"/>
        <c:axId val="72529674"/>
        <c:axId val="90144693"/>
        <c:axId val="0"/>
      </c:bar3DChart>
      <c:catAx>
        <c:axId val="7252967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90144693"/>
        <c:crosses val="autoZero"/>
        <c:auto val="1"/>
        <c:lblAlgn val="ctr"/>
        <c:lblOffset val="100"/>
        <c:noMultiLvlLbl val="0"/>
      </c:catAx>
      <c:valAx>
        <c:axId val="9014469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2529674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873465712525473</cdr:x>
      <cdr:y>0.164402966419465</cdr:y>
    </cdr:from>
    <cdr:to>
      <cdr:x>0.901852992749159</cdr:x>
      <cdr:y>0.214315473710524</cdr:y>
    </cdr:to>
    <cdr:sp>
      <cdr:nvSpPr>
        <cdr:cNvPr id="201" name="Скругленный прямоугольник 1"/>
        <cdr:cNvSpPr/>
      </cdr:nvSpPr>
      <cdr:spPr>
        <a:xfrm>
          <a:off x="6635160" y="710280"/>
          <a:ext cx="215640" cy="215640"/>
        </a:xfrm>
        <a:prstGeom prst="roundRect">
          <a:avLst>
            <a:gd name="adj" fmla="val 16667"/>
          </a:avLst>
        </a:prstGeom>
        <a:solidFill>
          <a:srgbClr val="00b050"/>
        </a:solidFill>
        <a:ln>
          <a:solidFill>
            <a:srgbClr val="00b050"/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endParaRPr b="0" lang="ru-RU" sz="18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3465712525473</cdr:x>
      <cdr:y>0.297725189567536</cdr:y>
    </cdr:from>
    <cdr:to>
      <cdr:x>0.901852992749159</cdr:x>
      <cdr:y>0.347637696858595</cdr:y>
    </cdr:to>
    <cdr:sp>
      <cdr:nvSpPr>
        <cdr:cNvPr id="202" name="Скругленный прямоугольник 2"/>
        <cdr:cNvSpPr/>
      </cdr:nvSpPr>
      <cdr:spPr>
        <a:xfrm>
          <a:off x="6635160" y="1286280"/>
          <a:ext cx="215640" cy="215640"/>
        </a:xfrm>
        <a:prstGeom prst="roundRect">
          <a:avLst>
            <a:gd name="adj" fmla="val 16667"/>
          </a:avLst>
        </a:prstGeom>
        <a:solidFill>
          <a:schemeClr val="tx2">
            <a:lumMod val="60000"/>
            <a:lumOff val="40000"/>
          </a:schemeClr>
        </a:solidFill>
        <a:ln>
          <a:solidFill>
            <a:srgbClr val="1f497d">
              <a:lumMod val="60000"/>
              <a:lumOff val="40000"/>
            </a:srgbClr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3465712525473</cdr:x>
      <cdr:y>0.44554620448296</cdr:y>
    </cdr:from>
    <cdr:to>
      <cdr:x>0.901852992749159</cdr:x>
      <cdr:y>0.495458711774019</cdr:y>
    </cdr:to>
    <cdr:sp>
      <cdr:nvSpPr>
        <cdr:cNvPr id="203" name="Скругленный прямоугольник 3"/>
        <cdr:cNvSpPr/>
      </cdr:nvSpPr>
      <cdr:spPr>
        <a:xfrm>
          <a:off x="6635160" y="1924920"/>
          <a:ext cx="215640" cy="215640"/>
        </a:xfrm>
        <a:prstGeom prst="roundRect">
          <a:avLst>
            <a:gd name="adj" fmla="val 16667"/>
          </a:avLst>
        </a:prstGeom>
        <a:solidFill>
          <a:schemeClr val="accent2">
            <a:lumMod val="60000"/>
            <a:lumOff val="40000"/>
          </a:schemeClr>
        </a:solidFill>
        <a:ln>
          <a:solidFill>
            <a:srgbClr val="c0504d">
              <a:lumMod val="60000"/>
              <a:lumOff val="40000"/>
            </a:srgbClr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4366143784655</cdr:x>
      <cdr:y>0.591617365219565</cdr:y>
    </cdr:from>
    <cdr:to>
      <cdr:x>0.902753424008341</cdr:x>
      <cdr:y>0.641529872510624</cdr:y>
    </cdr:to>
    <cdr:sp>
      <cdr:nvSpPr>
        <cdr:cNvPr id="204" name="Скругленный прямоугольник 4"/>
        <cdr:cNvSpPr/>
      </cdr:nvSpPr>
      <cdr:spPr>
        <a:xfrm>
          <a:off x="6642000" y="2556000"/>
          <a:ext cx="215640" cy="215640"/>
        </a:xfrm>
        <a:prstGeom prst="roundRect">
          <a:avLst>
            <a:gd name="adj" fmla="val 16667"/>
          </a:avLst>
        </a:prstGeom>
        <a:solidFill>
          <a:srgbClr val="77e2f7"/>
        </a:solidFill>
        <a:ln>
          <a:solidFill>
            <a:srgbClr val="77e2f7"/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516515804938155</cdr:x>
      <cdr:y>0.249979168402633</cdr:y>
    </cdr:from>
    <cdr:to>
      <cdr:x>0.636841855836216</cdr:x>
      <cdr:y>0.35597033580535</cdr:y>
    </cdr:to>
    <cdr:sp>
      <cdr:nvSpPr>
        <cdr:cNvPr id="205" name="Прямоугольник 6"/>
        <cdr:cNvSpPr/>
      </cdr:nvSpPr>
      <cdr:spPr>
        <a:xfrm>
          <a:off x="3923640" y="1080000"/>
          <a:ext cx="914040" cy="457920"/>
        </a:xfrm>
        <a:prstGeom prst="rect">
          <a:avLst/>
        </a:prstGeom>
        <a:noFill/>
        <a:ln>
          <a:noFill/>
        </a:ln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numCol="1" spcCol="0" anchor="ctr">
          <a:noAutofit/>
        </a:bodyPr>
        <a:p>
          <a:pPr algn="ctr"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491 185,2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336429553101749</cdr:x>
      <cdr:y>0.249979168402633</cdr:y>
    </cdr:from>
    <cdr:to>
      <cdr:x>0.45675560399981</cdr:x>
      <cdr:y>0.35597033580535</cdr:y>
    </cdr:to>
    <cdr:sp>
      <cdr:nvSpPr>
        <cdr:cNvPr id="206" name="Прямоугольник 7"/>
        <cdr:cNvSpPr/>
      </cdr:nvSpPr>
      <cdr:spPr>
        <a:xfrm>
          <a:off x="2555640" y="1080000"/>
          <a:ext cx="914040" cy="457920"/>
        </a:xfrm>
        <a:prstGeom prst="rect">
          <a:avLst/>
        </a:prstGeom>
        <a:noFill/>
        <a:ln>
          <a:noFill/>
        </a:ln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numCol="1" spcCol="0" anchor="ctr">
          <a:noAutofit/>
        </a:bodyPr>
        <a:p>
          <a:pPr algn="ctr"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490 873,9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EC9-AB39-4DEC-A7F2-36559502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616-44A1-49F1-A336-F99DE44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DCA-6A20-4CA9-B958-7A789AD7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3E8-48F7-4AC3-BD03-EB963EAC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527-9563-4511-B94E-2FFB14FD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5C4E-0F2D-43D3-AD0F-89A5C6F2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EF9-1EC4-45C2-B036-58A638E9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DEB-3F6F-4288-A36B-AC096BB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A72-1D74-42A6-96B8-F763D8C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1354-E5C8-4A7A-82AA-A83929D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A3C8-319C-4AD9-9E4C-53E6A46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5E1-AEC5-4D54-B170-24C3E189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09C-A1FA-4872-A584-B9CE0C5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DEF-C46B-49EC-9081-4B08652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A3E9-1BF8-45C3-8E9F-3C9378D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FB3C-FDF0-4AB9-A25C-36AF70D7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F5F1-3DBA-46C1-87A0-EF951B1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E9C-5D6F-49BE-BA72-5171CF8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C8D-259B-491C-8B1E-782FD73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B22-0725-49F7-85E7-21C45C1A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C99-F2B8-471E-8C57-0606C48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66B-A69B-44E9-A69D-67D0958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78F-D540-4EE1-97FF-C043AC0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0E9-4CC3-47C7-86F5-34720B8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F215A-118D-4DC6-8DA4-62ECB19393D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469DA3-2707-4EE1-B6F7-70752ED779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6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7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45.mchs.gov.ru/upload/resize_cache/iblock/9bd/360_360_0/9bdfcce181f3aeb273483aba3c7c48a4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1.xml"/><Relationship Id="rId3" Type="http://schemas.openxmlformats.org/officeDocument/2006/relationships/chart" Target="../charts/chart2.xml"/><Relationship Id="rId4" Type="http://schemas.openxmlformats.org/officeDocument/2006/relationships/chart" Target="../charts/chart3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92000" y="1628640"/>
            <a:ext cx="3165840" cy="15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юджет для граждан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000" y="3466440"/>
            <a:ext cx="4032000" cy="15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проекту решения Варгашинской районной Думы «О бюджете Варгашинского района на 2021 год и на плановый период 2022 и 2023 го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7640" y="1772640"/>
            <a:ext cx="4824000" cy="33868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" descr=""/>
          <p:cNvPicPr/>
          <p:nvPr/>
        </p:nvPicPr>
        <p:blipFill>
          <a:blip r:embed="rId2"/>
          <a:stretch/>
        </p:blipFill>
        <p:spPr>
          <a:xfrm>
            <a:off x="216000" y="3492360"/>
            <a:ext cx="728640" cy="692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" descr=""/>
          <p:cNvPicPr/>
          <p:nvPr/>
        </p:nvPicPr>
        <p:blipFill>
          <a:blip r:embed="rId3"/>
          <a:stretch/>
        </p:blipFill>
        <p:spPr>
          <a:xfrm>
            <a:off x="1064520" y="3501360"/>
            <a:ext cx="728640" cy="683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"/>
          <p:cNvPicPr/>
          <p:nvPr/>
        </p:nvPicPr>
        <p:blipFill>
          <a:blip r:embed="rId4"/>
          <a:stretch/>
        </p:blipFill>
        <p:spPr>
          <a:xfrm>
            <a:off x="1923120" y="349236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"/>
          <p:cNvPicPr/>
          <p:nvPr/>
        </p:nvPicPr>
        <p:blipFill>
          <a:blip r:embed="rId5"/>
          <a:stretch/>
        </p:blipFill>
        <p:spPr>
          <a:xfrm>
            <a:off x="2843640" y="349236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"/>
          <p:cNvPicPr/>
          <p:nvPr/>
        </p:nvPicPr>
        <p:blipFill>
          <a:blip r:embed="rId6"/>
          <a:stretch/>
        </p:blipFill>
        <p:spPr>
          <a:xfrm>
            <a:off x="3708000" y="349236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8" descr=""/>
          <p:cNvPicPr/>
          <p:nvPr/>
        </p:nvPicPr>
        <p:blipFill>
          <a:blip r:embed="rId7"/>
          <a:stretch/>
        </p:blipFill>
        <p:spPr>
          <a:xfrm>
            <a:off x="4613040" y="350172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9" descr=""/>
          <p:cNvPicPr/>
          <p:nvPr/>
        </p:nvPicPr>
        <p:blipFill>
          <a:blip r:embed="rId8"/>
          <a:stretch/>
        </p:blipFill>
        <p:spPr>
          <a:xfrm>
            <a:off x="5536440" y="349200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0" descr=""/>
          <p:cNvPicPr/>
          <p:nvPr/>
        </p:nvPicPr>
        <p:blipFill>
          <a:blip r:embed="rId9"/>
          <a:stretch/>
        </p:blipFill>
        <p:spPr>
          <a:xfrm>
            <a:off x="6405480" y="350172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"/>
          <p:cNvPicPr/>
          <p:nvPr/>
        </p:nvPicPr>
        <p:blipFill>
          <a:blip r:embed="rId10"/>
          <a:stretch/>
        </p:blipFill>
        <p:spPr>
          <a:xfrm>
            <a:off x="7338240" y="3501720"/>
            <a:ext cx="728640" cy="692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3" descr=""/>
          <p:cNvPicPr/>
          <p:nvPr/>
        </p:nvPicPr>
        <p:blipFill>
          <a:blip r:embed="rId11"/>
          <a:stretch/>
        </p:blipFill>
        <p:spPr>
          <a:xfrm>
            <a:off x="8244360" y="3501720"/>
            <a:ext cx="728640" cy="6926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2"/>
          <p:cNvSpPr/>
          <p:nvPr/>
        </p:nvSpPr>
        <p:spPr>
          <a:xfrm>
            <a:off x="-108360" y="5301360"/>
            <a:ext cx="1901880" cy="64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1«Общегосудар-ств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ы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 965,7 тыс.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Прямая соединительная линия 15"/>
          <p:cNvCxnSpPr>
            <a:stCxn id="163" idx="2"/>
          </p:cNvCxnSpPr>
          <p:nvPr/>
        </p:nvCxnSpPr>
        <p:spPr>
          <a:xfrm>
            <a:off x="580320" y="4185000"/>
            <a:ext cx="360" cy="9043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5" name="Прямоугольник 18"/>
          <p:cNvSpPr/>
          <p:nvPr/>
        </p:nvSpPr>
        <p:spPr>
          <a:xfrm>
            <a:off x="611640" y="4581000"/>
            <a:ext cx="1624680" cy="431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2«Национальная оборо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62,3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Прямая соединительная линия 20"/>
          <p:cNvCxnSpPr>
            <a:stCxn id="164" idx="2"/>
          </p:cNvCxnSpPr>
          <p:nvPr/>
        </p:nvCxnSpPr>
        <p:spPr>
          <a:xfrm>
            <a:off x="1429200" y="4185000"/>
            <a:ext cx="360" cy="2728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7" name="Прямоугольник 22"/>
          <p:cNvSpPr/>
          <p:nvPr/>
        </p:nvSpPr>
        <p:spPr>
          <a:xfrm>
            <a:off x="1547640" y="5132160"/>
            <a:ext cx="158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3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140,0 тыс.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единительная линия 24"/>
          <p:cNvCxnSpPr>
            <a:stCxn id="165" idx="2"/>
          </p:cNvCxnSpPr>
          <p:nvPr/>
        </p:nvCxnSpPr>
        <p:spPr>
          <a:xfrm>
            <a:off x="2287440" y="4176000"/>
            <a:ext cx="36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9" name="Прямоугольник 26"/>
          <p:cNvSpPr/>
          <p:nvPr/>
        </p:nvSpPr>
        <p:spPr>
          <a:xfrm>
            <a:off x="2524320" y="4326480"/>
            <a:ext cx="1471320" cy="654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4«Националь-ная эконом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 700,9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единительная линия 28"/>
          <p:cNvCxnSpPr>
            <a:stCxn id="166" idx="2"/>
            <a:endCxn id="179" idx="0"/>
          </p:cNvCxnSpPr>
          <p:nvPr/>
        </p:nvCxnSpPr>
        <p:spPr>
          <a:xfrm>
            <a:off x="3208320" y="4176720"/>
            <a:ext cx="51840" cy="149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1" name="Прямоугольник 33"/>
          <p:cNvSpPr/>
          <p:nvPr/>
        </p:nvSpPr>
        <p:spPr>
          <a:xfrm>
            <a:off x="3388320" y="5068440"/>
            <a:ext cx="1687320" cy="873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5«Жилищно-коммунальное хозяйств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,1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единительная линия 35"/>
          <p:cNvCxnSpPr>
            <a:stCxn id="167" idx="2"/>
            <a:endCxn id="181" idx="0"/>
          </p:cNvCxnSpPr>
          <p:nvPr/>
        </p:nvCxnSpPr>
        <p:spPr>
          <a:xfrm>
            <a:off x="4072320" y="4176000"/>
            <a:ext cx="16020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3" name="Прямоугольник 37"/>
          <p:cNvSpPr/>
          <p:nvPr/>
        </p:nvSpPr>
        <p:spPr>
          <a:xfrm>
            <a:off x="4205160" y="4465440"/>
            <a:ext cx="1806480" cy="469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7«Образов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5 160,6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единительная линия 39"/>
          <p:cNvCxnSpPr>
            <a:stCxn id="168" idx="2"/>
            <a:endCxn id="183" idx="0"/>
          </p:cNvCxnSpPr>
          <p:nvPr/>
        </p:nvCxnSpPr>
        <p:spPr>
          <a:xfrm>
            <a:off x="4977360" y="4185000"/>
            <a:ext cx="131400" cy="2804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5" name="Прямоугольник 41"/>
          <p:cNvSpPr/>
          <p:nvPr/>
        </p:nvSpPr>
        <p:spPr>
          <a:xfrm>
            <a:off x="5041800" y="5068440"/>
            <a:ext cx="1728000" cy="708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8«Культура, кинематограф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3 413,6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единительная линия 43"/>
          <p:cNvCxnSpPr>
            <a:stCxn id="169" idx="2"/>
            <a:endCxn id="185" idx="0"/>
          </p:cNvCxnSpPr>
          <p:nvPr/>
        </p:nvCxnSpPr>
        <p:spPr>
          <a:xfrm>
            <a:off x="5900760" y="4176000"/>
            <a:ext cx="540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7" name="Прямоугольник 48"/>
          <p:cNvSpPr/>
          <p:nvPr/>
        </p:nvSpPr>
        <p:spPr>
          <a:xfrm>
            <a:off x="5924880" y="4441320"/>
            <a:ext cx="1689480" cy="64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«Социальная полит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6 741,9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4"/>
          <p:cNvSpPr/>
          <p:nvPr/>
        </p:nvSpPr>
        <p:spPr>
          <a:xfrm>
            <a:off x="6914520" y="5589360"/>
            <a:ext cx="1574640" cy="579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«Физическая культура и спор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 097,8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единительная линия 56"/>
          <p:cNvCxnSpPr>
            <a:stCxn id="171" idx="2"/>
            <a:endCxn id="188" idx="0"/>
          </p:cNvCxnSpPr>
          <p:nvPr/>
        </p:nvCxnSpPr>
        <p:spPr>
          <a:xfrm flipH="1">
            <a:off x="7701840" y="4194360"/>
            <a:ext cx="1080" cy="1395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0" name="Прямоугольник 60"/>
          <p:cNvSpPr/>
          <p:nvPr/>
        </p:nvSpPr>
        <p:spPr>
          <a:xfrm>
            <a:off x="7615080" y="4326480"/>
            <a:ext cx="154548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«Межбюджет-ные трансферты общего характе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2 960,0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единительная линия 62"/>
          <p:cNvCxnSpPr>
            <a:stCxn id="172" idx="2"/>
          </p:cNvCxnSpPr>
          <p:nvPr/>
        </p:nvCxnSpPr>
        <p:spPr>
          <a:xfrm>
            <a:off x="8608680" y="4194360"/>
            <a:ext cx="360" cy="132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2" name="TextBox 65"/>
          <p:cNvSpPr/>
          <p:nvPr/>
        </p:nvSpPr>
        <p:spPr>
          <a:xfrm>
            <a:off x="457920" y="0"/>
            <a:ext cx="822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 на 202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1"/>
          <p:cNvSpPr/>
          <p:nvPr/>
        </p:nvSpPr>
        <p:spPr>
          <a:xfrm>
            <a:off x="-11880" y="2885400"/>
            <a:ext cx="9143640" cy="40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Разделы классификации рас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2"/>
          <p:cNvSpPr/>
          <p:nvPr/>
        </p:nvSpPr>
        <p:spPr>
          <a:xfrm>
            <a:off x="16920" y="523080"/>
            <a:ext cx="9143640" cy="991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Расходы бюджета – выплачиваемые из бюджета денежные средства, за исключением  средств, являющихся источниками финансирования дефицита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3"/>
          <p:cNvSpPr/>
          <p:nvPr/>
        </p:nvSpPr>
        <p:spPr>
          <a:xfrm>
            <a:off x="0" y="1679040"/>
            <a:ext cx="9131760" cy="10641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Формирование расходов 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единительная линия 112"/>
          <p:cNvCxnSpPr>
            <a:stCxn id="170" idx="2"/>
            <a:endCxn id="187" idx="0"/>
          </p:cNvCxnSpPr>
          <p:nvPr/>
        </p:nvCxnSpPr>
        <p:spPr>
          <a:xfrm>
            <a:off x="6769800" y="4185720"/>
            <a:ext cx="360" cy="255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7" name="Прямоугольник 122"/>
          <p:cNvSpPr/>
          <p:nvPr/>
        </p:nvSpPr>
        <p:spPr>
          <a:xfrm>
            <a:off x="263880" y="1967400"/>
            <a:ext cx="5159520" cy="1321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accent2">
                  <a:lumMod val="75000"/>
                </a:schemeClr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Диаграмма 5"/>
          <p:cNvGraphicFramePr/>
          <p:nvPr/>
        </p:nvGraphicFramePr>
        <p:xfrm>
          <a:off x="0" y="1845000"/>
          <a:ext cx="7596000" cy="43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07" name="Скругленный прямоугольник 1"/>
          <p:cNvSpPr/>
          <p:nvPr/>
        </p:nvSpPr>
        <p:spPr>
          <a:xfrm>
            <a:off x="0" y="-1800"/>
            <a:ext cx="9143640" cy="9140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0" y="81144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Ожидаемое исполнение бюджета Варгашинского района по расходам на 2020 год – 750 996,5 тыс.руб.  Общий  объем  расходов  бюджета  в  2021 году  составит  –  490 873,9 тыс.руб., в 2022 году – 491 185,2тыс.руб., в 2023 – 495 408,2 тыс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1043640" y="5769360"/>
            <a:ext cx="5328360" cy="30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ы, тыс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6858360" y="2374920"/>
            <a:ext cx="226728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жидаемое исполнение за 202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6876360" y="2950920"/>
            <a:ext cx="224244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6851520" y="4221000"/>
            <a:ext cx="226728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6858360" y="3589920"/>
            <a:ext cx="226044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1259640" y="1917000"/>
            <a:ext cx="914040" cy="457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50 99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"/>
          <p:cNvSpPr/>
          <p:nvPr/>
        </p:nvSpPr>
        <p:spPr>
          <a:xfrm>
            <a:off x="5220000" y="2995560"/>
            <a:ext cx="914040" cy="457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95 408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Диаграмма 5"/>
          <p:cNvGraphicFramePr/>
          <p:nvPr/>
        </p:nvGraphicFramePr>
        <p:xfrm>
          <a:off x="0" y="1772640"/>
          <a:ext cx="9143640" cy="439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19" name="Прямоугольник 1"/>
          <p:cNvSpPr/>
          <p:nvPr/>
        </p:nvSpPr>
        <p:spPr>
          <a:xfrm>
            <a:off x="0" y="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расходов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0" y="914400"/>
            <a:ext cx="9143640" cy="930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едомственная классификация показывает конкретных получателей бюджетных рас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едомственный признак позволяет выделить в каждой группе расходов соответствующее ведомство, получающее бюджетные ассиг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0" y="188640"/>
            <a:ext cx="9143640" cy="90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граждан из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9360" y="907920"/>
            <a:ext cx="9143640" cy="5495760"/>
            <a:chOff x="9360" y="907920"/>
            <a:chExt cx="9143640" cy="5495760"/>
          </a:xfrm>
        </p:grpSpPr>
        <p:sp>
          <p:nvSpPr>
            <p:cNvPr id="225" name="AutoShape 2"/>
            <p:cNvSpPr/>
            <p:nvPr/>
          </p:nvSpPr>
          <p:spPr>
            <a:xfrm>
              <a:off x="9360" y="907920"/>
              <a:ext cx="9134280" cy="5113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9360" y="907920"/>
              <a:ext cx="9134280" cy="745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9360" y="1644480"/>
              <a:ext cx="9134280" cy="81396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9360" y="2449440"/>
              <a:ext cx="9134280" cy="81396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9360" y="3254400"/>
              <a:ext cx="9134280" cy="81252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9360" y="4057560"/>
              <a:ext cx="9134280" cy="583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9360" y="4632480"/>
              <a:ext cx="9134280" cy="81396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9360" y="5437080"/>
              <a:ext cx="9134280" cy="583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9360" y="6012000"/>
              <a:ext cx="9134280" cy="39168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1187280" y="1166760"/>
              <a:ext cx="3606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именование социальной поддержк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5803560" y="93672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19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5702760" y="1195560"/>
              <a:ext cx="112896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фактическ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5736240" y="144468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6"/>
            <p:cNvSpPr/>
            <p:nvPr/>
          </p:nvSpPr>
          <p:spPr>
            <a:xfrm>
              <a:off x="6994080" y="93672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0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7"/>
            <p:cNvSpPr/>
            <p:nvPr/>
          </p:nvSpPr>
          <p:spPr>
            <a:xfrm>
              <a:off x="6956640" y="1195560"/>
              <a:ext cx="10022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ожидаем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8"/>
            <p:cNvSpPr/>
            <p:nvPr/>
          </p:nvSpPr>
          <p:spPr>
            <a:xfrm>
              <a:off x="6917400" y="144468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8165520" y="1062000"/>
              <a:ext cx="73728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1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0"/>
            <p:cNvSpPr/>
            <p:nvPr/>
          </p:nvSpPr>
          <p:spPr>
            <a:xfrm>
              <a:off x="8213760" y="1319040"/>
              <a:ext cx="7736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прогноз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251640" y="1654200"/>
              <a:ext cx="4772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Ежегодная персональная денежная выплата лицам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232920" y="1941480"/>
              <a:ext cx="40960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достоенным звания «Почетный гражданин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3"/>
            <p:cNvSpPr/>
            <p:nvPr/>
          </p:nvSpPr>
          <p:spPr>
            <a:xfrm>
              <a:off x="172440" y="2228760"/>
              <a:ext cx="22262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аргашинского района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6001560" y="19414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3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7182720" y="19414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3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8364240" y="1941480"/>
              <a:ext cx="479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5,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257400" y="2459160"/>
              <a:ext cx="48092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Меры социальной поддержки лиц, проживающих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257040" y="2746440"/>
              <a:ext cx="5295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аботающих в сельской местности и в рабочих поселк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183240" y="3033720"/>
              <a:ext cx="2518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(поселках городского типа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11120" y="274644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9 326,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6993360" y="2746440"/>
              <a:ext cx="750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 447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8174520" y="2746440"/>
              <a:ext cx="750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 094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262080" y="3263760"/>
              <a:ext cx="5037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стипендий учащимся, показавшим отличны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256680" y="3551400"/>
              <a:ext cx="45532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езультаты в спорте, учебе, в обучении музык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189000" y="3838680"/>
              <a:ext cx="27457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ополнительном образован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606276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724392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842472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280800" y="4097160"/>
              <a:ext cx="5486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 в лагерях дневного пребыван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163440" y="4384800"/>
              <a:ext cx="2025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 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6800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325,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704916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934,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823032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835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269640" y="4641840"/>
              <a:ext cx="47941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, находящихся в трудно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262080" y="4929120"/>
              <a:ext cx="50472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жизненной ситуации, в лагеря дневного пребывания в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160920" y="5216400"/>
              <a:ext cx="1868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7"/>
            <p:cNvSpPr/>
            <p:nvPr/>
          </p:nvSpPr>
          <p:spPr>
            <a:xfrm>
              <a:off x="594432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91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8"/>
            <p:cNvSpPr/>
            <p:nvPr/>
          </p:nvSpPr>
          <p:spPr>
            <a:xfrm>
              <a:off x="712548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76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9"/>
            <p:cNvSpPr/>
            <p:nvPr/>
          </p:nvSpPr>
          <p:spPr>
            <a:xfrm>
              <a:off x="830664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85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0"/>
            <p:cNvSpPr/>
            <p:nvPr/>
          </p:nvSpPr>
          <p:spPr>
            <a:xfrm>
              <a:off x="283680" y="5475240"/>
              <a:ext cx="5461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 в загородных оздоровитель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1"/>
            <p:cNvSpPr/>
            <p:nvPr/>
          </p:nvSpPr>
          <p:spPr>
            <a:xfrm>
              <a:off x="190440" y="5762520"/>
              <a:ext cx="2781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лагерях в 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2"/>
            <p:cNvSpPr/>
            <p:nvPr/>
          </p:nvSpPr>
          <p:spPr>
            <a:xfrm>
              <a:off x="5944320" y="561960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58,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53"/>
            <p:cNvSpPr/>
            <p:nvPr/>
          </p:nvSpPr>
          <p:spPr>
            <a:xfrm>
              <a:off x="7126200" y="5619600"/>
              <a:ext cx="596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74,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4"/>
            <p:cNvSpPr/>
            <p:nvPr/>
          </p:nvSpPr>
          <p:spPr>
            <a:xfrm>
              <a:off x="8306640" y="561960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802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55"/>
            <p:cNvSpPr/>
            <p:nvPr/>
          </p:nvSpPr>
          <p:spPr>
            <a:xfrm>
              <a:off x="936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6"/>
            <p:cNvSpPr/>
            <p:nvPr/>
          </p:nvSpPr>
          <p:spPr>
            <a:xfrm>
              <a:off x="559116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57"/>
            <p:cNvSpPr/>
            <p:nvPr/>
          </p:nvSpPr>
          <p:spPr>
            <a:xfrm>
              <a:off x="677232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58"/>
            <p:cNvSpPr/>
            <p:nvPr/>
          </p:nvSpPr>
          <p:spPr>
            <a:xfrm>
              <a:off x="795348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18720" y="90792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Rectangle 60"/>
            <p:cNvSpPr/>
            <p:nvPr/>
          </p:nvSpPr>
          <p:spPr>
            <a:xfrm>
              <a:off x="19080" y="9079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61"/>
            <p:cNvSpPr/>
            <p:nvPr/>
          </p:nvSpPr>
          <p:spPr>
            <a:xfrm>
              <a:off x="913464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18720" y="164448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63"/>
            <p:cNvSpPr/>
            <p:nvPr/>
          </p:nvSpPr>
          <p:spPr>
            <a:xfrm>
              <a:off x="19080" y="16444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18720" y="244944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65"/>
            <p:cNvSpPr/>
            <p:nvPr/>
          </p:nvSpPr>
          <p:spPr>
            <a:xfrm>
              <a:off x="19080" y="244944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18720" y="3254040"/>
              <a:ext cx="9125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67"/>
            <p:cNvSpPr/>
            <p:nvPr/>
          </p:nvSpPr>
          <p:spPr>
            <a:xfrm>
              <a:off x="19080" y="32544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18720" y="405756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69"/>
            <p:cNvSpPr/>
            <p:nvPr/>
          </p:nvSpPr>
          <p:spPr>
            <a:xfrm>
              <a:off x="19080" y="40575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18720" y="463212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71"/>
            <p:cNvSpPr/>
            <p:nvPr/>
          </p:nvSpPr>
          <p:spPr>
            <a:xfrm>
              <a:off x="19080" y="46324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18720" y="543708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Rectangle 73"/>
            <p:cNvSpPr/>
            <p:nvPr/>
          </p:nvSpPr>
          <p:spPr>
            <a:xfrm>
              <a:off x="19080" y="54370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74"/>
            <p:cNvSpPr/>
            <p:nvPr/>
          </p:nvSpPr>
          <p:spPr>
            <a:xfrm>
              <a:off x="18720" y="6011640"/>
              <a:ext cx="9125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75"/>
            <p:cNvSpPr/>
            <p:nvPr/>
          </p:nvSpPr>
          <p:spPr>
            <a:xfrm>
              <a:off x="19080" y="60120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9360" y="907920"/>
              <a:ext cx="1440" cy="5113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77"/>
            <p:cNvSpPr/>
            <p:nvPr/>
          </p:nvSpPr>
          <p:spPr>
            <a:xfrm>
              <a:off x="9360" y="907920"/>
              <a:ext cx="9000" cy="51224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78"/>
            <p:cNvSpPr/>
            <p:nvPr/>
          </p:nvSpPr>
          <p:spPr>
            <a:xfrm>
              <a:off x="5591160" y="917280"/>
              <a:ext cx="144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79"/>
            <p:cNvSpPr/>
            <p:nvPr/>
          </p:nvSpPr>
          <p:spPr>
            <a:xfrm>
              <a:off x="559116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80"/>
            <p:cNvSpPr/>
            <p:nvPr/>
          </p:nvSpPr>
          <p:spPr>
            <a:xfrm>
              <a:off x="6771960" y="917280"/>
              <a:ext cx="180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81"/>
            <p:cNvSpPr/>
            <p:nvPr/>
          </p:nvSpPr>
          <p:spPr>
            <a:xfrm>
              <a:off x="677232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82"/>
            <p:cNvSpPr/>
            <p:nvPr/>
          </p:nvSpPr>
          <p:spPr>
            <a:xfrm>
              <a:off x="7953120" y="917280"/>
              <a:ext cx="180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3"/>
            <p:cNvSpPr/>
            <p:nvPr/>
          </p:nvSpPr>
          <p:spPr>
            <a:xfrm>
              <a:off x="795348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84"/>
            <p:cNvSpPr/>
            <p:nvPr/>
          </p:nvSpPr>
          <p:spPr>
            <a:xfrm>
              <a:off x="9134280" y="917280"/>
              <a:ext cx="144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85"/>
            <p:cNvSpPr/>
            <p:nvPr/>
          </p:nvSpPr>
          <p:spPr>
            <a:xfrm>
              <a:off x="913464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144000" y="9079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87"/>
            <p:cNvSpPr/>
            <p:nvPr/>
          </p:nvSpPr>
          <p:spPr>
            <a:xfrm>
              <a:off x="9144000" y="9079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88"/>
            <p:cNvSpPr/>
            <p:nvPr/>
          </p:nvSpPr>
          <p:spPr>
            <a:xfrm>
              <a:off x="9144000" y="16444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89"/>
            <p:cNvSpPr/>
            <p:nvPr/>
          </p:nvSpPr>
          <p:spPr>
            <a:xfrm>
              <a:off x="9144000" y="16444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90"/>
            <p:cNvSpPr/>
            <p:nvPr/>
          </p:nvSpPr>
          <p:spPr>
            <a:xfrm>
              <a:off x="9144000" y="244944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1"/>
            <p:cNvSpPr/>
            <p:nvPr/>
          </p:nvSpPr>
          <p:spPr>
            <a:xfrm>
              <a:off x="9144000" y="244944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92"/>
            <p:cNvSpPr/>
            <p:nvPr/>
          </p:nvSpPr>
          <p:spPr>
            <a:xfrm>
              <a:off x="9144000" y="32540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3"/>
            <p:cNvSpPr/>
            <p:nvPr/>
          </p:nvSpPr>
          <p:spPr>
            <a:xfrm>
              <a:off x="9144000" y="32544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94"/>
            <p:cNvSpPr/>
            <p:nvPr/>
          </p:nvSpPr>
          <p:spPr>
            <a:xfrm>
              <a:off x="9144000" y="40575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95"/>
            <p:cNvSpPr/>
            <p:nvPr/>
          </p:nvSpPr>
          <p:spPr>
            <a:xfrm>
              <a:off x="9144000" y="40575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96"/>
            <p:cNvSpPr/>
            <p:nvPr/>
          </p:nvSpPr>
          <p:spPr>
            <a:xfrm>
              <a:off x="9144000" y="46321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97"/>
            <p:cNvSpPr/>
            <p:nvPr/>
          </p:nvSpPr>
          <p:spPr>
            <a:xfrm>
              <a:off x="9144000" y="46324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98"/>
            <p:cNvSpPr/>
            <p:nvPr/>
          </p:nvSpPr>
          <p:spPr>
            <a:xfrm>
              <a:off x="9144000" y="54370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99"/>
            <p:cNvSpPr/>
            <p:nvPr/>
          </p:nvSpPr>
          <p:spPr>
            <a:xfrm>
              <a:off x="9144000" y="54370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Line 100"/>
            <p:cNvSpPr/>
            <p:nvPr/>
          </p:nvSpPr>
          <p:spPr>
            <a:xfrm>
              <a:off x="9144000" y="60116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01"/>
            <p:cNvSpPr/>
            <p:nvPr/>
          </p:nvSpPr>
          <p:spPr>
            <a:xfrm>
              <a:off x="9144000" y="60120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8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0" y="908640"/>
            <a:ext cx="9143640" cy="5355360"/>
            <a:chOff x="0" y="908640"/>
            <a:chExt cx="9143640" cy="5355360"/>
          </a:xfrm>
        </p:grpSpPr>
        <p:sp>
          <p:nvSpPr>
            <p:cNvPr id="328" name="AutoShape 2"/>
            <p:cNvSpPr/>
            <p:nvPr/>
          </p:nvSpPr>
          <p:spPr>
            <a:xfrm>
              <a:off x="0" y="908640"/>
              <a:ext cx="9134280" cy="5314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>
              <a:off x="0" y="908640"/>
              <a:ext cx="9134280" cy="7426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5"/>
            <p:cNvSpPr/>
            <p:nvPr/>
          </p:nvSpPr>
          <p:spPr>
            <a:xfrm>
              <a:off x="0" y="1642320"/>
              <a:ext cx="9134280" cy="39024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6"/>
            <p:cNvSpPr/>
            <p:nvPr/>
          </p:nvSpPr>
          <p:spPr>
            <a:xfrm>
              <a:off x="0" y="2023200"/>
              <a:ext cx="9134280" cy="5806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Rectangle 7"/>
            <p:cNvSpPr/>
            <p:nvPr/>
          </p:nvSpPr>
          <p:spPr>
            <a:xfrm>
              <a:off x="0" y="2594520"/>
              <a:ext cx="9134280" cy="39024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0" y="2975760"/>
              <a:ext cx="9134280" cy="8092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Rectangle 9"/>
            <p:cNvSpPr/>
            <p:nvPr/>
          </p:nvSpPr>
          <p:spPr>
            <a:xfrm>
              <a:off x="0" y="3775680"/>
              <a:ext cx="9134280" cy="80928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0" y="4580640"/>
              <a:ext cx="9134280" cy="164736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>
              <a:off x="1158840" y="1166040"/>
              <a:ext cx="3606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именование социальной поддержк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2"/>
            <p:cNvSpPr/>
            <p:nvPr/>
          </p:nvSpPr>
          <p:spPr>
            <a:xfrm>
              <a:off x="5794200" y="93744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19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5659560" y="1194480"/>
              <a:ext cx="112896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фактическ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5698080" y="144216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6984720" y="93744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0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6"/>
            <p:cNvSpPr/>
            <p:nvPr/>
          </p:nvSpPr>
          <p:spPr>
            <a:xfrm>
              <a:off x="6918480" y="1194480"/>
              <a:ext cx="10022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ожидаем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7"/>
            <p:cNvSpPr/>
            <p:nvPr/>
          </p:nvSpPr>
          <p:spPr>
            <a:xfrm>
              <a:off x="6879240" y="144216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8"/>
            <p:cNvSpPr/>
            <p:nvPr/>
          </p:nvSpPr>
          <p:spPr>
            <a:xfrm>
              <a:off x="8156160" y="106128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1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9"/>
            <p:cNvSpPr/>
            <p:nvPr/>
          </p:nvSpPr>
          <p:spPr>
            <a:xfrm>
              <a:off x="8180640" y="1318320"/>
              <a:ext cx="7736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прогноз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0"/>
            <p:cNvSpPr/>
            <p:nvPr/>
          </p:nvSpPr>
          <p:spPr>
            <a:xfrm>
              <a:off x="187560" y="1728000"/>
              <a:ext cx="354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одержание детей в приемных семья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1"/>
            <p:cNvSpPr/>
            <p:nvPr/>
          </p:nvSpPr>
          <p:spPr>
            <a:xfrm>
              <a:off x="585864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 821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2"/>
            <p:cNvSpPr/>
            <p:nvPr/>
          </p:nvSpPr>
          <p:spPr>
            <a:xfrm>
              <a:off x="703980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6 757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3"/>
            <p:cNvSpPr/>
            <p:nvPr/>
          </p:nvSpPr>
          <p:spPr>
            <a:xfrm>
              <a:off x="822096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5 764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4"/>
            <p:cNvSpPr/>
            <p:nvPr/>
          </p:nvSpPr>
          <p:spPr>
            <a:xfrm>
              <a:off x="225720" y="2061360"/>
              <a:ext cx="47682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вознаграждения опекунам (попечителям)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5"/>
            <p:cNvSpPr/>
            <p:nvPr/>
          </p:nvSpPr>
          <p:spPr>
            <a:xfrm>
              <a:off x="144000" y="2346840"/>
              <a:ext cx="19976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риемным родителя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"/>
            <p:cNvSpPr/>
            <p:nvPr/>
          </p:nvSpPr>
          <p:spPr>
            <a:xfrm>
              <a:off x="585864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3 876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7"/>
            <p:cNvSpPr/>
            <p:nvPr/>
          </p:nvSpPr>
          <p:spPr>
            <a:xfrm>
              <a:off x="703980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5 643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8"/>
            <p:cNvSpPr/>
            <p:nvPr/>
          </p:nvSpPr>
          <p:spPr>
            <a:xfrm>
              <a:off x="822096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 756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9"/>
            <p:cNvSpPr/>
            <p:nvPr/>
          </p:nvSpPr>
          <p:spPr>
            <a:xfrm>
              <a:off x="225000" y="2680200"/>
              <a:ext cx="48261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одержание детей в семьях опекунов (попечителей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0"/>
            <p:cNvSpPr/>
            <p:nvPr/>
          </p:nvSpPr>
          <p:spPr>
            <a:xfrm>
              <a:off x="5859360" y="2680200"/>
              <a:ext cx="61236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 716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7040520" y="2680200"/>
              <a:ext cx="596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782,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2"/>
            <p:cNvSpPr/>
            <p:nvPr/>
          </p:nvSpPr>
          <p:spPr>
            <a:xfrm>
              <a:off x="8220960" y="268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789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3"/>
            <p:cNvSpPr/>
            <p:nvPr/>
          </p:nvSpPr>
          <p:spPr>
            <a:xfrm>
              <a:off x="228240" y="2985120"/>
              <a:ext cx="49341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единовременного пособия при всех форм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47680" y="3270960"/>
              <a:ext cx="53334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стройства детей, лишенных родительского попечения, в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5"/>
            <p:cNvSpPr/>
            <p:nvPr/>
          </p:nvSpPr>
          <p:spPr>
            <a:xfrm>
              <a:off x="102960" y="3556800"/>
              <a:ext cx="594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емью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6"/>
            <p:cNvSpPr/>
            <p:nvPr/>
          </p:nvSpPr>
          <p:spPr>
            <a:xfrm>
              <a:off x="5991840" y="327096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86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37"/>
            <p:cNvSpPr/>
            <p:nvPr/>
          </p:nvSpPr>
          <p:spPr>
            <a:xfrm>
              <a:off x="7115760" y="327096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01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8"/>
            <p:cNvSpPr/>
            <p:nvPr/>
          </p:nvSpPr>
          <p:spPr>
            <a:xfrm>
              <a:off x="8296920" y="327096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326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9"/>
            <p:cNvSpPr/>
            <p:nvPr/>
          </p:nvSpPr>
          <p:spPr>
            <a:xfrm>
              <a:off x="52200" y="3785400"/>
              <a:ext cx="43642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ы единовременного денежного пособ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0"/>
            <p:cNvSpPr/>
            <p:nvPr/>
          </p:nvSpPr>
          <p:spPr>
            <a:xfrm>
              <a:off x="54720" y="4070880"/>
              <a:ext cx="54097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ри достижении усыновленным (удочеренным) ребенком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42840" y="4356720"/>
              <a:ext cx="2163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есятилетнего возрас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2"/>
            <p:cNvSpPr/>
            <p:nvPr/>
          </p:nvSpPr>
          <p:spPr>
            <a:xfrm>
              <a:off x="7115760" y="40708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3"/>
            <p:cNvSpPr/>
            <p:nvPr/>
          </p:nvSpPr>
          <p:spPr>
            <a:xfrm>
              <a:off x="8296200" y="4070880"/>
              <a:ext cx="272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4"/>
            <p:cNvSpPr/>
            <p:nvPr/>
          </p:nvSpPr>
          <p:spPr>
            <a:xfrm>
              <a:off x="222120" y="4575960"/>
              <a:ext cx="4498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родителям (законным представителям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5"/>
            <p:cNvSpPr/>
            <p:nvPr/>
          </p:nvSpPr>
          <p:spPr>
            <a:xfrm>
              <a:off x="250560" y="4861440"/>
              <a:ext cx="54799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компенсации части платы, взимаемой за содержание дете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6"/>
            <p:cNvSpPr/>
            <p:nvPr/>
          </p:nvSpPr>
          <p:spPr>
            <a:xfrm>
              <a:off x="239400" y="5147280"/>
              <a:ext cx="5016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 государственных, муниципальных образователь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47"/>
            <p:cNvSpPr/>
            <p:nvPr/>
          </p:nvSpPr>
          <p:spPr>
            <a:xfrm>
              <a:off x="230760" y="5433120"/>
              <a:ext cx="49676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чреждениях и иных образовательных организациях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8"/>
            <p:cNvSpPr/>
            <p:nvPr/>
          </p:nvSpPr>
          <p:spPr>
            <a:xfrm>
              <a:off x="243000" y="5718960"/>
              <a:ext cx="5486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еализующих основную общеобразовательную программу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9"/>
            <p:cNvSpPr/>
            <p:nvPr/>
          </p:nvSpPr>
          <p:spPr>
            <a:xfrm>
              <a:off x="165240" y="6004440"/>
              <a:ext cx="2403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ошкольного образов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0"/>
            <p:cNvSpPr/>
            <p:nvPr/>
          </p:nvSpPr>
          <p:spPr>
            <a:xfrm>
              <a:off x="585864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005,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1"/>
            <p:cNvSpPr/>
            <p:nvPr/>
          </p:nvSpPr>
          <p:spPr>
            <a:xfrm>
              <a:off x="703980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 321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2"/>
            <p:cNvSpPr/>
            <p:nvPr/>
          </p:nvSpPr>
          <p:spPr>
            <a:xfrm>
              <a:off x="822096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887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3"/>
            <p:cNvSpPr/>
            <p:nvPr/>
          </p:nvSpPr>
          <p:spPr>
            <a:xfrm>
              <a:off x="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558180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55"/>
            <p:cNvSpPr/>
            <p:nvPr/>
          </p:nvSpPr>
          <p:spPr>
            <a:xfrm>
              <a:off x="676260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56"/>
            <p:cNvSpPr/>
            <p:nvPr/>
          </p:nvSpPr>
          <p:spPr>
            <a:xfrm>
              <a:off x="794376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57"/>
            <p:cNvSpPr/>
            <p:nvPr/>
          </p:nvSpPr>
          <p:spPr>
            <a:xfrm>
              <a:off x="9360" y="90864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58"/>
            <p:cNvSpPr/>
            <p:nvPr/>
          </p:nvSpPr>
          <p:spPr>
            <a:xfrm>
              <a:off x="9360" y="90864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59"/>
            <p:cNvSpPr/>
            <p:nvPr/>
          </p:nvSpPr>
          <p:spPr>
            <a:xfrm>
              <a:off x="912492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Line 60"/>
            <p:cNvSpPr/>
            <p:nvPr/>
          </p:nvSpPr>
          <p:spPr>
            <a:xfrm>
              <a:off x="9360" y="164196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61"/>
            <p:cNvSpPr/>
            <p:nvPr/>
          </p:nvSpPr>
          <p:spPr>
            <a:xfrm>
              <a:off x="9360" y="16423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Line 62"/>
            <p:cNvSpPr/>
            <p:nvPr/>
          </p:nvSpPr>
          <p:spPr>
            <a:xfrm>
              <a:off x="9360" y="202284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63"/>
            <p:cNvSpPr/>
            <p:nvPr/>
          </p:nvSpPr>
          <p:spPr>
            <a:xfrm>
              <a:off x="9360" y="20232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64"/>
            <p:cNvSpPr/>
            <p:nvPr/>
          </p:nvSpPr>
          <p:spPr>
            <a:xfrm>
              <a:off x="9360" y="259452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65"/>
            <p:cNvSpPr/>
            <p:nvPr/>
          </p:nvSpPr>
          <p:spPr>
            <a:xfrm>
              <a:off x="9360" y="25945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9360" y="297540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67"/>
            <p:cNvSpPr/>
            <p:nvPr/>
          </p:nvSpPr>
          <p:spPr>
            <a:xfrm>
              <a:off x="9360" y="29757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9360" y="377568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69"/>
            <p:cNvSpPr/>
            <p:nvPr/>
          </p:nvSpPr>
          <p:spPr>
            <a:xfrm>
              <a:off x="9360" y="37756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9360" y="457560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9360" y="45759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0" y="908640"/>
              <a:ext cx="1440" cy="5314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0" y="908640"/>
              <a:ext cx="9000" cy="5314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>
              <a:off x="558144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58180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>
              <a:off x="676260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676260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78"/>
            <p:cNvSpPr/>
            <p:nvPr/>
          </p:nvSpPr>
          <p:spPr>
            <a:xfrm>
              <a:off x="794376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79"/>
            <p:cNvSpPr/>
            <p:nvPr/>
          </p:nvSpPr>
          <p:spPr>
            <a:xfrm>
              <a:off x="794376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80"/>
            <p:cNvSpPr/>
            <p:nvPr/>
          </p:nvSpPr>
          <p:spPr>
            <a:xfrm>
              <a:off x="9360" y="621396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81"/>
            <p:cNvSpPr/>
            <p:nvPr/>
          </p:nvSpPr>
          <p:spPr>
            <a:xfrm>
              <a:off x="9360" y="62143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82"/>
            <p:cNvSpPr/>
            <p:nvPr/>
          </p:nvSpPr>
          <p:spPr>
            <a:xfrm>
              <a:off x="912492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83"/>
            <p:cNvSpPr/>
            <p:nvPr/>
          </p:nvSpPr>
          <p:spPr>
            <a:xfrm>
              <a:off x="912492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84"/>
            <p:cNvSpPr/>
            <p:nvPr/>
          </p:nvSpPr>
          <p:spPr>
            <a:xfrm>
              <a:off x="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85"/>
            <p:cNvSpPr/>
            <p:nvPr/>
          </p:nvSpPr>
          <p:spPr>
            <a:xfrm>
              <a:off x="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86"/>
            <p:cNvSpPr/>
            <p:nvPr/>
          </p:nvSpPr>
          <p:spPr>
            <a:xfrm>
              <a:off x="558144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87"/>
            <p:cNvSpPr/>
            <p:nvPr/>
          </p:nvSpPr>
          <p:spPr>
            <a:xfrm>
              <a:off x="558180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88"/>
            <p:cNvSpPr/>
            <p:nvPr/>
          </p:nvSpPr>
          <p:spPr>
            <a:xfrm>
              <a:off x="676260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9"/>
            <p:cNvSpPr/>
            <p:nvPr/>
          </p:nvSpPr>
          <p:spPr>
            <a:xfrm>
              <a:off x="676260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Line 90"/>
            <p:cNvSpPr/>
            <p:nvPr/>
          </p:nvSpPr>
          <p:spPr>
            <a:xfrm>
              <a:off x="794376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91"/>
            <p:cNvSpPr/>
            <p:nvPr/>
          </p:nvSpPr>
          <p:spPr>
            <a:xfrm>
              <a:off x="794376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Line 92"/>
            <p:cNvSpPr/>
            <p:nvPr/>
          </p:nvSpPr>
          <p:spPr>
            <a:xfrm>
              <a:off x="912492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93"/>
            <p:cNvSpPr/>
            <p:nvPr/>
          </p:nvSpPr>
          <p:spPr>
            <a:xfrm>
              <a:off x="912492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Line 94"/>
            <p:cNvSpPr/>
            <p:nvPr/>
          </p:nvSpPr>
          <p:spPr>
            <a:xfrm>
              <a:off x="9134280" y="90864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95"/>
            <p:cNvSpPr/>
            <p:nvPr/>
          </p:nvSpPr>
          <p:spPr>
            <a:xfrm>
              <a:off x="9134640" y="90864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Line 96"/>
            <p:cNvSpPr/>
            <p:nvPr/>
          </p:nvSpPr>
          <p:spPr>
            <a:xfrm>
              <a:off x="9134280" y="16419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97"/>
            <p:cNvSpPr/>
            <p:nvPr/>
          </p:nvSpPr>
          <p:spPr>
            <a:xfrm>
              <a:off x="9134640" y="16423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Line 98"/>
            <p:cNvSpPr/>
            <p:nvPr/>
          </p:nvSpPr>
          <p:spPr>
            <a:xfrm>
              <a:off x="9134280" y="20228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99"/>
            <p:cNvSpPr/>
            <p:nvPr/>
          </p:nvSpPr>
          <p:spPr>
            <a:xfrm>
              <a:off x="9134640" y="20232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100"/>
            <p:cNvSpPr/>
            <p:nvPr/>
          </p:nvSpPr>
          <p:spPr>
            <a:xfrm>
              <a:off x="9134280" y="25945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101"/>
            <p:cNvSpPr/>
            <p:nvPr/>
          </p:nvSpPr>
          <p:spPr>
            <a:xfrm>
              <a:off x="9134640" y="25945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102"/>
            <p:cNvSpPr/>
            <p:nvPr/>
          </p:nvSpPr>
          <p:spPr>
            <a:xfrm>
              <a:off x="9134280" y="297540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103"/>
            <p:cNvSpPr/>
            <p:nvPr/>
          </p:nvSpPr>
          <p:spPr>
            <a:xfrm>
              <a:off x="9134640" y="29757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104"/>
            <p:cNvSpPr/>
            <p:nvPr/>
          </p:nvSpPr>
          <p:spPr>
            <a:xfrm>
              <a:off x="9134280" y="37756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105"/>
            <p:cNvSpPr/>
            <p:nvPr/>
          </p:nvSpPr>
          <p:spPr>
            <a:xfrm>
              <a:off x="9134640" y="3775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106"/>
            <p:cNvSpPr/>
            <p:nvPr/>
          </p:nvSpPr>
          <p:spPr>
            <a:xfrm>
              <a:off x="9134280" y="457560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107"/>
            <p:cNvSpPr/>
            <p:nvPr/>
          </p:nvSpPr>
          <p:spPr>
            <a:xfrm>
              <a:off x="9134640" y="45759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108"/>
            <p:cNvSpPr/>
            <p:nvPr/>
          </p:nvSpPr>
          <p:spPr>
            <a:xfrm>
              <a:off x="9134280" y="62139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109"/>
            <p:cNvSpPr/>
            <p:nvPr/>
          </p:nvSpPr>
          <p:spPr>
            <a:xfrm>
              <a:off x="9134640" y="62143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114"/>
          <p:cNvSpPr/>
          <p:nvPr/>
        </p:nvSpPr>
        <p:spPr>
          <a:xfrm>
            <a:off x="5868000" y="4005000"/>
            <a:ext cx="71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115"/>
          <p:cNvSpPr/>
          <p:nvPr/>
        </p:nvSpPr>
        <p:spPr>
          <a:xfrm>
            <a:off x="0" y="0"/>
            <a:ext cx="9143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граждан из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2"/>
          <p:cNvSpPr/>
          <p:nvPr/>
        </p:nvSpPr>
        <p:spPr>
          <a:xfrm>
            <a:off x="0" y="-2628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чего формировать и испол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по программ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с двумя скругленными противолежащими углами 5"/>
          <p:cNvSpPr/>
          <p:nvPr/>
        </p:nvSpPr>
        <p:spPr>
          <a:xfrm>
            <a:off x="179640" y="980640"/>
            <a:ext cx="8784720" cy="5112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В целях повышения эффективности и  результативности бюджетных расходов принято решение: формировать и исполнять расходную часть бюджета  Варгашинского района через реализацию муниципальных 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 направлены на достижение зада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Муниципальная программа Варгашинского района (далее муниципальная программа)– комплекс мероприятий, увязанных по ресурсам, исполнителям и срокам, направленных на достижение конкретной цели в сфере социального, экономического, культурного и иного развития Варгашинского района, улучшение качества жизн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1"/>
          <p:cNvSpPr/>
          <p:nvPr/>
        </p:nvSpPr>
        <p:spPr>
          <a:xfrm>
            <a:off x="0" y="-99360"/>
            <a:ext cx="9143640" cy="1124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на 2021 год в разрезе муниципальных програм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Таблица 95"/>
          <p:cNvGraphicFramePr/>
          <p:nvPr/>
        </p:nvGraphicFramePr>
        <p:xfrm>
          <a:off x="0" y="908640"/>
          <a:ext cx="9108000" cy="5395320"/>
        </p:xfrm>
        <a:graphic>
          <a:graphicData uri="http://schemas.openxmlformats.org/drawingml/2006/table">
            <a:tbl>
              <a:tblPr/>
              <a:tblGrid>
                <a:gridCol w="7293240"/>
                <a:gridCol w="181476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Расходы Варгашинского района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490 8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5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з них: расходы на реализацию муниципальных программ,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5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86 637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7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рганизация проведения мероприятий по отлову и содержанию безнадзорных животных на территории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Профилактика правонарушений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Профилактика терроризм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76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Улучшение условий и охраны труд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 13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10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 Развитие единой дежурно-диспетчерской службы управления строительства, жилищно-коммунального хозяйства, транспорта и дорожной деятельности Администрации Варгашинского рай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1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Патриотическое воспитание граждан 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Совершенствование транспортной инфраструк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70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96"/>
          <p:cNvSpPr/>
          <p:nvPr/>
        </p:nvSpPr>
        <p:spPr>
          <a:xfrm>
            <a:off x="8460360" y="692640"/>
            <a:ext cx="683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5"/>
          <p:cNvSpPr/>
          <p:nvPr/>
        </p:nvSpPr>
        <p:spPr>
          <a:xfrm>
            <a:off x="0" y="0"/>
            <a:ext cx="9143640" cy="980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на 2021 год в разрезе муниципа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Таблица 96"/>
          <p:cNvGraphicFramePr/>
          <p:nvPr/>
        </p:nvGraphicFramePr>
        <p:xfrm>
          <a:off x="0" y="1052640"/>
          <a:ext cx="9143640" cy="5184360"/>
        </p:xfrm>
        <a:graphic>
          <a:graphicData uri="http://schemas.openxmlformats.org/drawingml/2006/table">
            <a:tbl>
              <a:tblPr/>
              <a:tblGrid>
                <a:gridCol w="7740000"/>
                <a:gridCol w="1403640"/>
              </a:tblGrid>
              <a:tr h="55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физической культуры и спорт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8 06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5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культуры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8 42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88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Управление и распоряжение муниципальным имуществом и земельными участками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агропромышленного комплекс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91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88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Снижение административных барьеров, оптимизация и повышение качества предоставления муниципальных услу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88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беспечение деятельности Администрации Варгашинского района по участию и проведению торжественных мероприят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4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88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беспечение жильем молодых семей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181800" y="116640"/>
            <a:ext cx="8856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дения мероприятий по отлову и содержанию безнадзор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вотных на территории Варгашинского район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2853000" y="1340640"/>
            <a:ext cx="61851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- создание благоприятных условий проживания граждан за счет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окращения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численности безнадзорн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 обеспечение санитарно-эпидемиологической безопасности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212760" y="3069000"/>
            <a:ext cx="86385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 -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порядочение содержания безнадзорных животных на территори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тлов и содержание безнадзорн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Таблица 10"/>
          <p:cNvGraphicFramePr/>
          <p:nvPr/>
        </p:nvGraphicFramePr>
        <p:xfrm>
          <a:off x="3170160" y="4870800"/>
          <a:ext cx="2880000" cy="514440"/>
        </p:xfrm>
        <a:graphic>
          <a:graphicData uri="http://schemas.openxmlformats.org/drawingml/2006/table">
            <a:tbl>
              <a:tblPr/>
              <a:tblGrid>
                <a:gridCol w="959400"/>
                <a:gridCol w="960120"/>
                <a:gridCol w="96012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Скругленный прямоугольник 11"/>
          <p:cNvSpPr/>
          <p:nvPr/>
        </p:nvSpPr>
        <p:spPr>
          <a:xfrm>
            <a:off x="2927880" y="4296600"/>
            <a:ext cx="3364200" cy="1220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2916360" y="4347720"/>
            <a:ext cx="3375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14" descr=""/>
          <p:cNvPicPr/>
          <p:nvPr/>
        </p:nvPicPr>
        <p:blipFill>
          <a:blip r:embed="rId2"/>
          <a:stretch/>
        </p:blipFill>
        <p:spPr>
          <a:xfrm>
            <a:off x="245880" y="1301040"/>
            <a:ext cx="2345400" cy="15476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"/>
          <p:cNvSpPr/>
          <p:nvPr/>
        </p:nvSpPr>
        <p:spPr>
          <a:xfrm>
            <a:off x="17280" y="37800"/>
            <a:ext cx="921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Профилактика правонарушений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1835640" y="764640"/>
            <a:ext cx="705636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Цель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общественной безопасности и безопасности граждан на территории Варгашинского рай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вершенствование системы социально-психологической и профессиональной реабилитации и адаптации лиц, освободившихся из мест лишения свобо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вышение и укрепление доверия общества к правоохранительным орган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вершенствование системы мер, направленных на снижение масштабов незаконного оборота, спроса и потребления наркотических средств, психотропных веществ, их аналогов или прекурсоров (далее - наркотики), сильнодействующих веществ на территории Варгаши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179640" y="2853000"/>
            <a:ext cx="547236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Задачи: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) повышение уровня защиты жизни, здоровья и безопасности граждан на территории Варгашинского района, профилактика незаконной трудовой миг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) усиление социальной профилактики правонарушений среди несовершеннолетних и молодёж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негативного отношения в обществе к совершению правонарушений, а также к потреблению пива, алкогольных напитков, наркотических веществ, формирование здорового образа жиз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) формирование позитивного общественного мнения о правоохранительной системе и результатах ее деятельности, восстановление доверия общества к правоохранительным орган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ыявление и пресечение преступлений, совершенных в сфере незаконного оборота наркот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10" descr="kartinka3.jpg"/>
          <p:cNvPicPr/>
          <p:nvPr/>
        </p:nvPicPr>
        <p:blipFill>
          <a:blip r:embed="rId2"/>
          <a:stretch/>
        </p:blipFill>
        <p:spPr>
          <a:xfrm>
            <a:off x="0" y="836640"/>
            <a:ext cx="1825560" cy="162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Таблица 11"/>
          <p:cNvGraphicFramePr/>
          <p:nvPr/>
        </p:nvGraphicFramePr>
        <p:xfrm>
          <a:off x="5796000" y="3789000"/>
          <a:ext cx="3228120" cy="1464480"/>
        </p:xfrm>
        <a:graphic>
          <a:graphicData uri="http://schemas.openxmlformats.org/drawingml/2006/table">
            <a:tbl>
              <a:tblPr/>
              <a:tblGrid>
                <a:gridCol w="1614240"/>
                <a:gridCol w="1614240"/>
              </a:tblGrid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12"/>
          <p:cNvSpPr/>
          <p:nvPr/>
        </p:nvSpPr>
        <p:spPr>
          <a:xfrm>
            <a:off x="6012000" y="335700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208000" y="3573000"/>
            <a:ext cx="935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640" y="0"/>
            <a:ext cx="8229240" cy="11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Варгашинского райо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Таблица 5"/>
          <p:cNvGraphicFramePr/>
          <p:nvPr/>
        </p:nvGraphicFramePr>
        <p:xfrm>
          <a:off x="5148000" y="1556640"/>
          <a:ext cx="3874320" cy="2086920"/>
        </p:xfrm>
        <a:graphic>
          <a:graphicData uri="http://schemas.openxmlformats.org/drawingml/2006/table">
            <a:tbl>
              <a:tblPr/>
              <a:tblGrid>
                <a:gridCol w="2618280"/>
                <a:gridCol w="1255680"/>
              </a:tblGrid>
              <a:tr h="660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ие по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суерски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товско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стовски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ы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Скругленный прямоугольник 11"/>
          <p:cNvSpPr/>
          <p:nvPr/>
        </p:nvSpPr>
        <p:spPr>
          <a:xfrm>
            <a:off x="323640" y="4941000"/>
            <a:ext cx="4104000" cy="11300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ативный центр – р.п. Варгаши с численностью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30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vargashi.png"/>
          <p:cNvPicPr/>
          <p:nvPr/>
        </p:nvPicPr>
        <p:blipFill>
          <a:blip r:embed="rId2"/>
          <a:stretch/>
        </p:blipFill>
        <p:spPr>
          <a:xfrm>
            <a:off x="107640" y="1340640"/>
            <a:ext cx="493164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-36360" y="-21960"/>
            <a:ext cx="9236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Профилактика терроризм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2051640" y="692640"/>
            <a:ext cx="698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ащита населения от пропагандисткого (идеологического) воздействия террористических организаций, сообществ и отдельны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антитеррористической безопасности в Варгашин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179640" y="2421000"/>
            <a:ext cx="54723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 повышение эффективности профилактической работы с лицами, подверженными воздействию идеологии терроризма, особенно с молодежью, а также подпавшими под ее влия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ершенствование мер информационно-пропагандистского характера и защиты информационного пространства от идеологии террор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антитеррористической безопасности мест массового пребывания людей. Совершенствование антитеррористической защищенности объектов, находящихся в ведении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5" descr="i.jpg"/>
          <p:cNvPicPr/>
          <p:nvPr/>
        </p:nvPicPr>
        <p:blipFill>
          <a:blip r:embed="rId2"/>
          <a:stretch/>
        </p:blipFill>
        <p:spPr>
          <a:xfrm>
            <a:off x="179640" y="620640"/>
            <a:ext cx="1916640" cy="191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Таблица 16"/>
          <p:cNvGraphicFramePr/>
          <p:nvPr/>
        </p:nvGraphicFramePr>
        <p:xfrm>
          <a:off x="5796000" y="3069000"/>
          <a:ext cx="3119760" cy="2183040"/>
        </p:xfrm>
        <a:graphic>
          <a:graphicData uri="http://schemas.openxmlformats.org/drawingml/2006/table">
            <a:tbl>
              <a:tblPr/>
              <a:tblGrid>
                <a:gridCol w="1559880"/>
                <a:gridCol w="1559880"/>
              </a:tblGrid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76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66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66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75" name="TextBox 17"/>
          <p:cNvSpPr/>
          <p:nvPr/>
        </p:nvSpPr>
        <p:spPr>
          <a:xfrm>
            <a:off x="5940000" y="2637000"/>
            <a:ext cx="26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8"/>
          <p:cNvSpPr/>
          <p:nvPr/>
        </p:nvSpPr>
        <p:spPr>
          <a:xfrm>
            <a:off x="8172360" y="2853000"/>
            <a:ext cx="827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"/>
          <p:cNvSpPr/>
          <p:nvPr/>
        </p:nvSpPr>
        <p:spPr>
          <a:xfrm>
            <a:off x="143640" y="116640"/>
            <a:ext cx="885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лучшение условий и охраны труд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1955160" y="839160"/>
            <a:ext cx="7188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ализация основных направлений государственной политики в области охраны труда по обеспечению приоритета сохранения жизни и здоровья работников Администрации Варгашинского района и организаций, находящихся на территори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44440" y="2039400"/>
            <a:ext cx="877068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- принятие эффективных мер, направленных на улучшение условий и охраны труда на рабочих местах, на снижение производственного травматизма и профзаболеваем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рост количества организаций, не имеющих случаев производственного травматизма и профзаболеваем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ринятие эффективных мер в сфере регулирования обеспечения охраны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разработка мероприятий по дальнейшему повышению уровня безопасности труда на рабочих мест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овышение эффективности услуг, оказываемых организациям, находя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на территории Варгашинского района, в обеспечении безопасности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снижение уровня профессиональных рис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рофилактика здоровья работающ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обеспечение работодателей и специалистов по охране труда организ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находящихся на территории Варгашинского района, оперативной информ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о вопросам охраны тру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7" descr=""/>
          <p:cNvPicPr/>
          <p:nvPr/>
        </p:nvPicPr>
        <p:blipFill>
          <a:blip r:embed="rId2"/>
          <a:stretch/>
        </p:blipFill>
        <p:spPr>
          <a:xfrm>
            <a:off x="143640" y="700560"/>
            <a:ext cx="1995120" cy="1281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85" name="TextBox 2"/>
          <p:cNvSpPr/>
          <p:nvPr/>
        </p:nvSpPr>
        <p:spPr>
          <a:xfrm>
            <a:off x="179640" y="44640"/>
            <a:ext cx="878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лучшение условий и охраны труд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0" y="476640"/>
            <a:ext cx="2592000" cy="14936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487" name="TextBox 6"/>
          <p:cNvSpPr/>
          <p:nvPr/>
        </p:nvSpPr>
        <p:spPr>
          <a:xfrm>
            <a:off x="3492000" y="1340640"/>
            <a:ext cx="532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овое обеспечение программы (тыс. руб.)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Таблица 7"/>
          <p:cNvGraphicFramePr/>
          <p:nvPr/>
        </p:nvGraphicFramePr>
        <p:xfrm>
          <a:off x="323640" y="1845000"/>
          <a:ext cx="8568720" cy="4356360"/>
        </p:xfrm>
        <a:graphic>
          <a:graphicData uri="http://schemas.openxmlformats.org/drawingml/2006/table">
            <a:tbl>
              <a:tblPr/>
              <a:tblGrid>
                <a:gridCol w="4406400"/>
                <a:gridCol w="1039680"/>
                <a:gridCol w="1040760"/>
                <a:gridCol w="1040760"/>
                <a:gridCol w="1040760"/>
              </a:tblGrid>
              <a:tr h="36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1 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бучение и проверка знаний по охране труда руководителей, специалистов,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и проведение аттестации рабочих мест по условиям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0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0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проведения профилактических медицинских осмотров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76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8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9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54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проведения предрейсовых медицинских осмотров 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0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5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работы по обеспечению пожарной безопасности 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7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90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рганизация работ по обеспечению электробезопасности 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9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 13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 10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 10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1"/>
          <p:cNvSpPr/>
          <p:nvPr/>
        </p:nvSpPr>
        <p:spPr>
          <a:xfrm>
            <a:off x="107640" y="0"/>
            <a:ext cx="903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Развитие единой дежурно-диспетчерской службы управления строительства, жилищно-коммунального хозяйства, транспорта и дорожной деятельности Администрации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179640" y="1628640"/>
            <a:ext cx="6336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 развитие и автоматизация системы управления при угрозе или возникновении чрезвычайной ситуации, определение очередности задач, структуры, порядка и функционирования единой дежурно-диспетчерск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233640" y="3055320"/>
            <a:ext cx="871272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- реализация требований основных нормативных правовых актов по вопросам гражданской обороны, пожарной безопасности, защиты населения и территорий от чрезвычай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376092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оснащение ЕДДС программно-техническими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втоматизации управ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овышение уровня квалификаци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6" descr="008-169532.jpg"/>
          <p:cNvPicPr/>
          <p:nvPr/>
        </p:nvPicPr>
        <p:blipFill>
          <a:blip r:embed="rId2"/>
          <a:stretch/>
        </p:blipFill>
        <p:spPr>
          <a:xfrm>
            <a:off x="6639120" y="1628640"/>
            <a:ext cx="2196360" cy="1418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95" name="Скругленный прямоугольник 7"/>
          <p:cNvSpPr/>
          <p:nvPr/>
        </p:nvSpPr>
        <p:spPr>
          <a:xfrm>
            <a:off x="4788000" y="4869000"/>
            <a:ext cx="3672000" cy="120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4788000" y="4869000"/>
            <a:ext cx="367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Таблица 12"/>
          <p:cNvGraphicFramePr/>
          <p:nvPr/>
        </p:nvGraphicFramePr>
        <p:xfrm>
          <a:off x="4983120" y="5443560"/>
          <a:ext cx="3282120" cy="514440"/>
        </p:xfrm>
        <a:graphic>
          <a:graphicData uri="http://schemas.openxmlformats.org/drawingml/2006/table">
            <a:tbl>
              <a:tblPr/>
              <a:tblGrid>
                <a:gridCol w="819720"/>
                <a:gridCol w="820440"/>
                <a:gridCol w="820440"/>
                <a:gridCol w="82044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1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1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1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 4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"/>
          <p:cNvSpPr/>
          <p:nvPr/>
        </p:nvSpPr>
        <p:spPr>
          <a:xfrm>
            <a:off x="107640" y="0"/>
            <a:ext cx="903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Патриотическое воспитание граждан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ый прямоугольник 7"/>
          <p:cNvSpPr/>
          <p:nvPr/>
        </p:nvSpPr>
        <p:spPr>
          <a:xfrm>
            <a:off x="5364000" y="4941000"/>
            <a:ext cx="3672000" cy="120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2" name="TextBox 11"/>
          <p:cNvSpPr/>
          <p:nvPr/>
        </p:nvSpPr>
        <p:spPr>
          <a:xfrm>
            <a:off x="5292000" y="4941000"/>
            <a:ext cx="367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Таблица 12"/>
          <p:cNvGraphicFramePr/>
          <p:nvPr/>
        </p:nvGraphicFramePr>
        <p:xfrm>
          <a:off x="5580000" y="5517360"/>
          <a:ext cx="3282120" cy="514440"/>
        </p:xfrm>
        <a:graphic>
          <a:graphicData uri="http://schemas.openxmlformats.org/drawingml/2006/table">
            <a:tbl>
              <a:tblPr/>
              <a:tblGrid>
                <a:gridCol w="819720"/>
                <a:gridCol w="820440"/>
                <a:gridCol w="820440"/>
                <a:gridCol w="82044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Box 10"/>
          <p:cNvSpPr/>
          <p:nvPr/>
        </p:nvSpPr>
        <p:spPr>
          <a:xfrm>
            <a:off x="2195640" y="692640"/>
            <a:ext cx="6768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создание условий для эффективного развития системы патриотического воспитания граждан, проживающих на территории Варгашинского района (далее - граждане Варгашинского района), повышения уровня консолидации общества для решения задач обеспечения национальной безопасности, укрепления чувства сопричастности граждан Варгашинского района к великой истории и культуре России, обеспечения преемственности поколений, воспитания гражданина, любящего свою Родину и семью, имеющего активную жизненную пози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Рисунок 13" descr="in_article_54223fe288.jpg"/>
          <p:cNvPicPr/>
          <p:nvPr/>
        </p:nvPicPr>
        <p:blipFill>
          <a:blip r:embed="rId2"/>
          <a:stretch/>
        </p:blipFill>
        <p:spPr>
          <a:xfrm>
            <a:off x="0" y="980640"/>
            <a:ext cx="2123280" cy="16833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14"/>
          <p:cNvSpPr/>
          <p:nvPr/>
        </p:nvSpPr>
        <p:spPr>
          <a:xfrm>
            <a:off x="179640" y="2925000"/>
            <a:ext cx="87847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совершенствование процесса патриотического воспитания граждан Варгашинского района с применением успешно зарекомендовавших себя на практике форм и методов работы с учетом возрастных особенностей населения и складывающейся социально-экономической ситуации в район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251640" y="3933000"/>
            <a:ext cx="88920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ение условий для развития волонтерского движения и содействия деятельности общественных объединений (поисковых, археологических, военно­-исторических, краеведческих) патриотической направ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7"/>
          <p:cNvSpPr/>
          <p:nvPr/>
        </p:nvSpPr>
        <p:spPr>
          <a:xfrm>
            <a:off x="179640" y="4653000"/>
            <a:ext cx="504036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звитие у граждан Варгашинского района уважения к государственным символам Российской Федерации, символам Курганской области, Варгашинского района, а также воинским релик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здание условий для дальнейшего укрепления и развития кадетского движения в Варгашинском рай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214920" y="116640"/>
            <a:ext cx="89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Совершенствование транспортной инфраструктуры Варгашинского район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179640" y="980640"/>
            <a:ext cx="5040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- совершенствование  транспортной инфра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139320" y="1780200"/>
            <a:ext cx="6721920" cy="158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проведение работ по капит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монту, ремонту и содержанию автомоби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г и искусственных сооружений на них, в 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е мероприятий по повышению безопасност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9" descr="article-1-website.jpg"/>
          <p:cNvPicPr/>
          <p:nvPr/>
        </p:nvPicPr>
        <p:blipFill>
          <a:blip r:embed="rId2"/>
          <a:stretch/>
        </p:blipFill>
        <p:spPr>
          <a:xfrm>
            <a:off x="6084000" y="908640"/>
            <a:ext cx="2842920" cy="1894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515" name="Скругленный прямоугольник 10"/>
          <p:cNvSpPr/>
          <p:nvPr/>
        </p:nvSpPr>
        <p:spPr>
          <a:xfrm>
            <a:off x="611640" y="3285000"/>
            <a:ext cx="6552360" cy="273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16" name="Прямоугольник 11"/>
          <p:cNvSpPr/>
          <p:nvPr/>
        </p:nvSpPr>
        <p:spPr>
          <a:xfrm>
            <a:off x="683640" y="3285000"/>
            <a:ext cx="61203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Таблица 12"/>
          <p:cNvGraphicFramePr/>
          <p:nvPr/>
        </p:nvGraphicFramePr>
        <p:xfrm>
          <a:off x="755640" y="4293000"/>
          <a:ext cx="6192360" cy="1440000"/>
        </p:xfrm>
        <a:graphic>
          <a:graphicData uri="http://schemas.openxmlformats.org/drawingml/2006/table">
            <a:tbl>
              <a:tblPr/>
              <a:tblGrid>
                <a:gridCol w="1548000"/>
                <a:gridCol w="1548000"/>
                <a:gridCol w="1548000"/>
                <a:gridCol w="154800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18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"/>
          <p:cNvSpPr/>
          <p:nvPr/>
        </p:nvSpPr>
        <p:spPr>
          <a:xfrm>
            <a:off x="329400" y="0"/>
            <a:ext cx="864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Развитие физической культуры и спорта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179640" y="908640"/>
            <a:ext cx="6745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оздани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условий, обеспечивающих возможность населению Варгашинского района систематически заниматься физической культурой и спортом, повышение эффективности подготовки спортсменов в спорте высших достижений и конкурентоспособности спортсменов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0" y="2421000"/>
            <a:ext cx="9036000" cy="28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эффективности управления развития отрасли физической культуры и спорта в Варгашинском рай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мотивации населения Варгашинского района к регулярным занятиям физической культурой и спортом и ведению здорового образа 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доступности и качества физкультурно-спортивных услуг, предоставляемых всем категориям населения Варгашинского района, в том числе инвалидам и лицам с ограниченными возможностями здоров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вершенствование системы отбора и подготовки спортивного резерва для спортивных сборных команд Варгашинского района и Курганской об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звитие инфраструктуры физической культуры и спорта, в том числе для лиц с ограниченными возможностями здоровья и инвалидов.</a:t>
            </a: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http://www.45.mchs.gov.ru/upload/resize_cache/iblock/9bd/360_360_0/9bdfcce181f3aeb273483aba3c7c48a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6120" y="908640"/>
            <a:ext cx="1944000" cy="15116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graphicFrame>
        <p:nvGraphicFramePr>
          <p:cNvPr id="524" name="Таблица 9"/>
          <p:cNvGraphicFramePr/>
          <p:nvPr/>
        </p:nvGraphicFramePr>
        <p:xfrm>
          <a:off x="3708000" y="5661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6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6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6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Скругленный прямоугольник 10"/>
          <p:cNvSpPr/>
          <p:nvPr/>
        </p:nvSpPr>
        <p:spPr>
          <a:xfrm>
            <a:off x="3636000" y="5085360"/>
            <a:ext cx="3456000" cy="111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3924000" y="5085360"/>
            <a:ext cx="273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1"/>
          <p:cNvSpPr/>
          <p:nvPr/>
        </p:nvSpPr>
        <p:spPr>
          <a:xfrm>
            <a:off x="173880" y="0"/>
            <a:ext cx="878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азвитие культуры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251640" y="836640"/>
            <a:ext cx="5540400" cy="20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звитие культурного потенциала Варгашинского рай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ализация государственной политики в сфере куль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здание эффективной системы библиотечного обслужи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сохранение, развитие и улучшение качества дополнительного образования детей в 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 ДО «Варгашинская   Ш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179640" y="2997000"/>
            <a:ext cx="86094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учреждений куль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уровня, объёма и разнообразия услуг в сфере культуры и искус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библиот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ение  доступности библиотечных услуг для граждан с ограниченными жизненными  возмож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ение спектра библиотечных услуг и повышение эффективности использования библиотечных ресур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ение культурно-просветительской деятельности библиотек по продвижению чтения и книги, организация содержательного дос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дополнительно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качества дополнительно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увеличение процента охвата обучающихся  дополнительным образованием.</a:t>
            </a: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Рисунок 6" descr="DSC_0073.JPG"/>
          <p:cNvPicPr/>
          <p:nvPr/>
        </p:nvPicPr>
        <p:blipFill>
          <a:blip r:embed="rId2"/>
          <a:stretch/>
        </p:blipFill>
        <p:spPr>
          <a:xfrm>
            <a:off x="5724000" y="1052640"/>
            <a:ext cx="3059280" cy="201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Таблица 5"/>
          <p:cNvGraphicFramePr/>
          <p:nvPr/>
        </p:nvGraphicFramePr>
        <p:xfrm>
          <a:off x="179640" y="1989000"/>
          <a:ext cx="8784720" cy="4176000"/>
        </p:xfrm>
        <a:graphic>
          <a:graphicData uri="http://schemas.openxmlformats.org/drawingml/2006/table">
            <a:tbl>
              <a:tblPr/>
              <a:tblGrid>
                <a:gridCol w="4288680"/>
                <a:gridCol w="1143360"/>
                <a:gridCol w="1143360"/>
                <a:gridCol w="1169280"/>
                <a:gridCol w="1039320"/>
              </a:tblGrid>
              <a:tr h="44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776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отдела культуры Администрации Варгашинского рай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6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07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07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884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ение народного творчества и развитие культурно-досуг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30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9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09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00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558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библиотечного 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16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16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86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1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833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 в сфере культуры и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8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8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8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76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681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42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1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2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 7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536" name="TextBox 2"/>
          <p:cNvSpPr/>
          <p:nvPr/>
        </p:nvSpPr>
        <p:spPr>
          <a:xfrm>
            <a:off x="199800" y="20520"/>
            <a:ext cx="8712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азвитие культуры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"/>
          <p:cNvSpPr/>
          <p:nvPr/>
        </p:nvSpPr>
        <p:spPr>
          <a:xfrm>
            <a:off x="3661200" y="1525320"/>
            <a:ext cx="521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овое обеспечение программы (тыс. руб.)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Рисунок 8" descr=""/>
          <p:cNvPicPr/>
          <p:nvPr/>
        </p:nvPicPr>
        <p:blipFill>
          <a:blip r:embed="rId2"/>
          <a:stretch/>
        </p:blipFill>
        <p:spPr>
          <a:xfrm>
            <a:off x="182520" y="762840"/>
            <a:ext cx="3527280" cy="12016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1"/>
          <p:cNvSpPr/>
          <p:nvPr/>
        </p:nvSpPr>
        <p:spPr>
          <a:xfrm>
            <a:off x="251640" y="0"/>
            <a:ext cx="871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правление и распоряжение муниципальным имуществом и земельными участками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5" descr="530e000758e6a409a07ad681db8be320.jpg"/>
          <p:cNvPicPr/>
          <p:nvPr/>
        </p:nvPicPr>
        <p:blipFill>
          <a:blip r:embed="rId2"/>
          <a:stretch/>
        </p:blipFill>
        <p:spPr>
          <a:xfrm>
            <a:off x="982440" y="1108080"/>
            <a:ext cx="1609200" cy="140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43" name="TextBox 2"/>
          <p:cNvSpPr/>
          <p:nvPr/>
        </p:nvSpPr>
        <p:spPr>
          <a:xfrm>
            <a:off x="3231720" y="1108080"/>
            <a:ext cx="56883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беспечение достоверности информации о составе и характеристиках муниципального имущества и земельных участков Варгашинского района и защита прав муниципальной собственности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201600" y="2509560"/>
            <a:ext cx="88124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- вовлечение земельных участков и объектов недвижимости в хозяйственный оборот, увеличение доходов от использования земельных участков и объектов недвиж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регистрация права собственности Варгашинского района на объекты недвижимости, в том числе земельные участки, относящиеся к муниципальной собственности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мероприятий по оптимизации состава муниципального имущества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иватизация муниципального имущества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ый прямоугольник 7"/>
          <p:cNvSpPr/>
          <p:nvPr/>
        </p:nvSpPr>
        <p:spPr>
          <a:xfrm>
            <a:off x="2591640" y="5083200"/>
            <a:ext cx="3483720" cy="1081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6" name="Прямоугольник 8"/>
          <p:cNvSpPr/>
          <p:nvPr/>
        </p:nvSpPr>
        <p:spPr>
          <a:xfrm>
            <a:off x="2677680" y="5064480"/>
            <a:ext cx="331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Таблица 9"/>
          <p:cNvGraphicFramePr/>
          <p:nvPr/>
        </p:nvGraphicFramePr>
        <p:xfrm>
          <a:off x="2627640" y="5589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бюджет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94" name="Скругленный прямоугольник 5"/>
          <p:cNvSpPr/>
          <p:nvPr/>
        </p:nvSpPr>
        <p:spPr>
          <a:xfrm>
            <a:off x="467640" y="692640"/>
            <a:ext cx="8208720" cy="101340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67640" y="1917000"/>
            <a:ext cx="8208720" cy="1007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ле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е составление бюджета Варгашинского района осуществляет Финансовое управление Администраци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484200" y="3141000"/>
            <a:ext cx="8208720" cy="1295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обренный Администрацией Варгашинского района проект решения о бюджете  вносится Главой Варгашинского района на рассмотрение Варгашинской районной 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467640" y="4653000"/>
            <a:ext cx="8208720" cy="1439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твержд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о бюджете Варгашинского района на очередной финансовый год и плановый период утверждается депутатами Варгашинской районной Думы и передается для обнародования в Информационный бюллетень «Варгашинский вест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13"/>
          <p:cNvSpPr/>
          <p:nvPr/>
        </p:nvSpPr>
        <p:spPr>
          <a:xfrm>
            <a:off x="101520" y="2563560"/>
            <a:ext cx="348840" cy="86508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noFill/>
          <a:ln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Выгнутая влево стрелка 15"/>
          <p:cNvSpPr/>
          <p:nvPr/>
        </p:nvSpPr>
        <p:spPr>
          <a:xfrm>
            <a:off x="101520" y="4077000"/>
            <a:ext cx="348840" cy="86508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noFill/>
          <a:ln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"/>
          <p:cNvSpPr/>
          <p:nvPr/>
        </p:nvSpPr>
        <p:spPr>
          <a:xfrm>
            <a:off x="143640" y="0"/>
            <a:ext cx="885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Развитие агропромышленного комплекса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Рисунок 5" descr="5474243.jpg"/>
          <p:cNvPicPr/>
          <p:nvPr/>
        </p:nvPicPr>
        <p:blipFill>
          <a:blip r:embed="rId2"/>
          <a:stretch/>
        </p:blipFill>
        <p:spPr>
          <a:xfrm>
            <a:off x="143640" y="1052640"/>
            <a:ext cx="2340000" cy="1728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52" name="TextBox 2"/>
          <p:cNvSpPr/>
          <p:nvPr/>
        </p:nvSpPr>
        <p:spPr>
          <a:xfrm>
            <a:off x="2555640" y="764640"/>
            <a:ext cx="640836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Цел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ение населения качественными и безопасными продуктами питания, увеличение вклада в продовольственную Программу  Курганской области; повышение конкурентоспособности продукции, производимой в агропромышленном комплексе Варгашинского  района; повышение финансовой устойчивости сельскохозяйственных товаропроизводителей; повышение эффективности использования земельных, сырьевых,  трудовых и других ресурсов; привлечение инвесторов для вовлечения в оборот неиспользуемых земель сельскохозяйственного назна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0" y="3069000"/>
            <a:ext cx="885312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производства основных видов сельскохозяйственной продукции и  пищевых продук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щевой и перерабатывающе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ка малых форм хозяйств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ункционирования отраслей сельского хозяйства, доходов организаций АПК за счет оказания мер господдержки  (в том числе финансов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мулирование инновационной деятельности и инновационного развития агропромышленного комплекса в Варгашинском районе; повышение уровня доходов сельского населения; обеспечение эффективной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7"/>
          <p:cNvSpPr/>
          <p:nvPr/>
        </p:nvSpPr>
        <p:spPr>
          <a:xfrm>
            <a:off x="4932000" y="508536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Прямоугольник 8"/>
          <p:cNvSpPr/>
          <p:nvPr/>
        </p:nvSpPr>
        <p:spPr>
          <a:xfrm>
            <a:off x="4860000" y="5085360"/>
            <a:ext cx="36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Таблица 9"/>
          <p:cNvGraphicFramePr/>
          <p:nvPr/>
        </p:nvGraphicFramePr>
        <p:xfrm>
          <a:off x="5004000" y="5661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59" name="TextBox 2"/>
          <p:cNvSpPr/>
          <p:nvPr/>
        </p:nvSpPr>
        <p:spPr>
          <a:xfrm>
            <a:off x="323640" y="9360"/>
            <a:ext cx="871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Снижение административных барьеров, оптимизация и повышение качества предоставления муниципальных услу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6" descr=""/>
          <p:cNvPicPr/>
          <p:nvPr/>
        </p:nvPicPr>
        <p:blipFill>
          <a:blip r:embed="rId2"/>
          <a:stretch/>
        </p:blipFill>
        <p:spPr>
          <a:xfrm>
            <a:off x="179640" y="1053000"/>
            <a:ext cx="1704600" cy="1656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61" name="TextBox 7"/>
          <p:cNvSpPr/>
          <p:nvPr/>
        </p:nvSpPr>
        <p:spPr>
          <a:xfrm>
            <a:off x="2053080" y="1268640"/>
            <a:ext cx="6840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- оптимизация и повышение качества предоставления муниципальных услуг» являются снижение административных барьеров, а также оптимизация и повышение качества предоставления муниципальных услуг в Варгашин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8"/>
          <p:cNvSpPr/>
          <p:nvPr/>
        </p:nvSpPr>
        <p:spPr>
          <a:xfrm>
            <a:off x="226080" y="2499840"/>
            <a:ext cx="86418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en-US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комплексной оптимизации муниципальных услуг по сферам обществен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формирование и ведение реестра муниципальных услуг Администрации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совершенствование разрешительной деятельности органов Администрации Варгашинского района в различных сферах обществен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рганизация перевода муниципальных услуг на предоставление в электронном ви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рганизация взаимодействия с МФ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мониторинга качества и доступности муниципальн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9"/>
          <p:cNvSpPr/>
          <p:nvPr/>
        </p:nvSpPr>
        <p:spPr>
          <a:xfrm>
            <a:off x="3060000" y="510228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Прямоугольник 10"/>
          <p:cNvSpPr/>
          <p:nvPr/>
        </p:nvSpPr>
        <p:spPr>
          <a:xfrm>
            <a:off x="3111840" y="5102280"/>
            <a:ext cx="3314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Таблица 11"/>
          <p:cNvGraphicFramePr/>
          <p:nvPr/>
        </p:nvGraphicFramePr>
        <p:xfrm>
          <a:off x="3135600" y="5625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286920" y="0"/>
            <a:ext cx="8856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Обеспечение деятельности Администрации Варгашинского района по участию и проведению торжественных мероприятий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2850120" y="1133640"/>
            <a:ext cx="6083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рганизационное и материально-техническое обеспечение деятельности Администрации Варгашинского района по участию и проведению торжественных мероприятий и поощрение граждан, юридических лиц за заслуги перед рай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5" descr=""/>
          <p:cNvPicPr/>
          <p:nvPr/>
        </p:nvPicPr>
        <p:blipFill>
          <a:blip r:embed="rId2"/>
          <a:stretch/>
        </p:blipFill>
        <p:spPr>
          <a:xfrm>
            <a:off x="496800" y="1133640"/>
            <a:ext cx="2052360" cy="1431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71" name="TextBox 6"/>
          <p:cNvSpPr/>
          <p:nvPr/>
        </p:nvSpPr>
        <p:spPr>
          <a:xfrm>
            <a:off x="179640" y="2536560"/>
            <a:ext cx="86407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- организация торжественных мероприятий, проводимых Администрацией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материально-техническое обеспечение торжественных мероприятий, проводимых Администрацией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беспечение поощрения граждан, юридических лиц за заслуги в экономике, науке, культуре, искусстве, воспитании, поощрении, охране жизни, здоровья и защите прав граждан, в благотворительной деятельности, участие в общественной жизни района, вклад в развитие района, осуществление мер обеспечению законности и правопорядка и за иной значительный вклад в развитие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8"/>
          <p:cNvSpPr/>
          <p:nvPr/>
        </p:nvSpPr>
        <p:spPr>
          <a:xfrm>
            <a:off x="3060000" y="515520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3093480" y="5152680"/>
            <a:ext cx="3564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Таблица 11"/>
          <p:cNvGraphicFramePr/>
          <p:nvPr/>
        </p:nvGraphicFramePr>
        <p:xfrm>
          <a:off x="3128400" y="56901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77" name="TextBox 5"/>
          <p:cNvSpPr/>
          <p:nvPr/>
        </p:nvSpPr>
        <p:spPr>
          <a:xfrm>
            <a:off x="214920" y="116640"/>
            <a:ext cx="89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Обеспечение жильем молодых семей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2699640" y="980640"/>
            <a:ext cx="5976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- реализация государственной поддержки в решении жилищной проблемы молодых семей Варгашинского района, признанных в установленном порядке нуждающимися в улучшении жилищных усл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251640" y="2337120"/>
            <a:ext cx="8678520" cy="1550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- обеспечение предоставления молодым семьям социальных выплат на приобретение (строительство) жил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условий для привлечения молодыми семьями собственных средств, дополнительных финансовых средств кредитных и других организаций, предоставляющих кредиты и зай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числе ипотечных жилищных кредитов, для приобретения жилого помещения или строительства индивидуального жилого до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Рисунок 9" descr="gal_kachestvennyy_remont_i_otdelka_kvartir_domov_ofisov_pod_klyuch_17256114.jpg"/>
          <p:cNvPicPr/>
          <p:nvPr/>
        </p:nvPicPr>
        <p:blipFill>
          <a:blip r:embed="rId2"/>
          <a:stretch/>
        </p:blipFill>
        <p:spPr>
          <a:xfrm>
            <a:off x="143640" y="836640"/>
            <a:ext cx="2316960" cy="1544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81" name="Прямоугольник с двумя скругленными противолежащими углами 10"/>
          <p:cNvSpPr/>
          <p:nvPr/>
        </p:nvSpPr>
        <p:spPr>
          <a:xfrm>
            <a:off x="1907640" y="4149000"/>
            <a:ext cx="4896360" cy="19440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aphicFrame>
        <p:nvGraphicFramePr>
          <p:cNvPr id="582" name="Таблица 11"/>
          <p:cNvGraphicFramePr/>
          <p:nvPr/>
        </p:nvGraphicFramePr>
        <p:xfrm>
          <a:off x="2123640" y="4869000"/>
          <a:ext cx="4464000" cy="11635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  <a:gridCol w="1116000"/>
              </a:tblGrid>
              <a:tr h="58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8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583" name="Прямоугольник 12"/>
          <p:cNvSpPr/>
          <p:nvPr/>
        </p:nvSpPr>
        <p:spPr>
          <a:xfrm>
            <a:off x="2483640" y="4221000"/>
            <a:ext cx="374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1"/>
          <p:cNvSpPr/>
          <p:nvPr/>
        </p:nvSpPr>
        <p:spPr>
          <a:xfrm>
            <a:off x="0" y="792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ые информацио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с двумя скругленными противолежащими углами 2"/>
          <p:cNvSpPr/>
          <p:nvPr/>
        </p:nvSpPr>
        <p:spPr>
          <a:xfrm>
            <a:off x="502560" y="930600"/>
            <a:ext cx="8138880" cy="14180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Официальный сайт Администрации Варгаш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17375e"/>
                </a:solidFill>
                <a:latin typeface="Times New Roman"/>
              </a:rPr>
              <a:t>http://www.45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варгаши.рф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с двумя скругленными противолежащими углами 5"/>
          <p:cNvSpPr/>
          <p:nvPr/>
        </p:nvSpPr>
        <p:spPr>
          <a:xfrm>
            <a:off x="502560" y="2761200"/>
            <a:ext cx="8138880" cy="29718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Брошюра подготовлена Финансовым управлением Администрации Варгашинского района Кург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ул.Чкалова,22,  р.п. Варгаши,  64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телефон (8-35233) 2-06-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факс (8-35233) 2-10-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Е</a:t>
            </a:r>
            <a:r>
              <a:rPr b="0" lang="fr-FR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mail: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raifo4503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0" y="0"/>
            <a:ext cx="914364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ятиугольник 2"/>
          <p:cNvSpPr/>
          <p:nvPr/>
        </p:nvSpPr>
        <p:spPr>
          <a:xfrm>
            <a:off x="467640" y="608040"/>
            <a:ext cx="7488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ащивание внутреннего налогового потенциала, налоговое стимулирование инвест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ятиугольник 6"/>
          <p:cNvSpPr/>
          <p:nvPr/>
        </p:nvSpPr>
        <p:spPr>
          <a:xfrm>
            <a:off x="467640" y="1218600"/>
            <a:ext cx="7488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выгодное сотрудничество с организациями, формирующими налоговый потенциал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ятиугольник 7"/>
          <p:cNvSpPr/>
          <p:nvPr/>
        </p:nvSpPr>
        <p:spPr>
          <a:xfrm>
            <a:off x="467640" y="1828800"/>
            <a:ext cx="7488360" cy="81108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районного налогового законодательства с учетом изменившихся экономических условий, а также изменений в федеральном законода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ятиугольник 8"/>
          <p:cNvSpPr/>
          <p:nvPr/>
        </p:nvSpPr>
        <p:spPr>
          <a:xfrm>
            <a:off x="467640" y="2709000"/>
            <a:ext cx="7488360" cy="81108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 ограниченного срока действия при введении новых налоговых льгот, направленных на поддержку и развитие экономики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ятиугольник 9"/>
          <p:cNvSpPr/>
          <p:nvPr/>
        </p:nvSpPr>
        <p:spPr>
          <a:xfrm>
            <a:off x="467640" y="3587040"/>
            <a:ext cx="7488360" cy="63360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и оптимизация состава региональных налоговых льгот (налоговых расходов) с учетом оценки их 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ятиугольник 10"/>
          <p:cNvSpPr/>
          <p:nvPr/>
        </p:nvSpPr>
        <p:spPr>
          <a:xfrm>
            <a:off x="467640" y="4941000"/>
            <a:ext cx="7488360" cy="62676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иторинг нормативных правовых актов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иугольник 11"/>
          <p:cNvSpPr/>
          <p:nvPr/>
        </p:nvSpPr>
        <p:spPr>
          <a:xfrm>
            <a:off x="467640" y="5640480"/>
            <a:ext cx="7488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развития субъектов малого и среднего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ятиугольник 12"/>
          <p:cNvSpPr/>
          <p:nvPr/>
        </p:nvSpPr>
        <p:spPr>
          <a:xfrm>
            <a:off x="467640" y="4293000"/>
            <a:ext cx="7488360" cy="575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ачества администрирования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5"/>
          <p:cNvSpPr/>
          <p:nvPr/>
        </p:nvSpPr>
        <p:spPr>
          <a:xfrm>
            <a:off x="251640" y="0"/>
            <a:ext cx="8640720" cy="8636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бюджета – это безвозмездные и безвозвратные поступления денежных средств в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"/>
          <p:cNvSpPr/>
          <p:nvPr/>
        </p:nvSpPr>
        <p:spPr>
          <a:xfrm>
            <a:off x="2915640" y="864000"/>
            <a:ext cx="3312000" cy="575640"/>
          </a:xfrm>
          <a:prstGeom prst="roundRect">
            <a:avLst>
              <a:gd name="adj" fmla="val 16667"/>
            </a:avLst>
          </a:prstGeom>
          <a:solidFill>
            <a:srgbClr val="7ef0b2"/>
          </a:solidFill>
          <a:ln w="9525">
            <a:solidFill>
              <a:srgbClr val="9bbb59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3"/>
          <p:cNvSpPr/>
          <p:nvPr/>
        </p:nvSpPr>
        <p:spPr>
          <a:xfrm>
            <a:off x="107640" y="1578600"/>
            <a:ext cx="2808000" cy="64800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4bacc6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5"/>
          <p:cNvSpPr/>
          <p:nvPr/>
        </p:nvSpPr>
        <p:spPr>
          <a:xfrm>
            <a:off x="107640" y="231624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4bacc6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предусмотренных Законодательством РФ федеральных налогов и сборов, в том числе от налогов, предусмотренных специальными налоговыми режимами, и законодательством Кург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6"/>
          <p:cNvSpPr/>
          <p:nvPr/>
        </p:nvSpPr>
        <p:spPr>
          <a:xfrm>
            <a:off x="3060000" y="1578600"/>
            <a:ext cx="3024000" cy="64764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7"/>
          <p:cNvSpPr/>
          <p:nvPr/>
        </p:nvSpPr>
        <p:spPr>
          <a:xfrm>
            <a:off x="6228360" y="1578600"/>
            <a:ext cx="2808000" cy="64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8064a2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8"/>
          <p:cNvSpPr/>
          <p:nvPr/>
        </p:nvSpPr>
        <p:spPr>
          <a:xfrm>
            <a:off x="3060000" y="2316240"/>
            <a:ext cx="3024000" cy="381600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тежи, которые включают в себя безвозмездные операции от прямого предоставления государством в пользование имуществом и природных ресурсов от различного вида услуг, а также платежи в виде штрафов или иных санкций за нарушение Законодательст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0"/>
          <p:cNvSpPr/>
          <p:nvPr/>
        </p:nvSpPr>
        <p:spPr>
          <a:xfrm>
            <a:off x="6228360" y="231624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8064a2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тации, субсидии, субвенции, межбюджетные трансферты из бюджетов вышестоящего уровня; безвозмездные поступления от физических и юридических лиц, в том числе добровольные пожер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0" y="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бюджета Варгашинского района 2021-2023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"/>
          <p:cNvSpPr/>
          <p:nvPr/>
        </p:nvSpPr>
        <p:spPr>
          <a:xfrm>
            <a:off x="71964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363600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6"/>
          <p:cNvSpPr/>
          <p:nvPr/>
        </p:nvSpPr>
        <p:spPr>
          <a:xfrm>
            <a:off x="651636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Диаграмма 7"/>
          <p:cNvGraphicFramePr/>
          <p:nvPr/>
        </p:nvGraphicFramePr>
        <p:xfrm>
          <a:off x="27900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28" name="Диаграмма 8"/>
          <p:cNvGraphicFramePr/>
          <p:nvPr/>
        </p:nvGraphicFramePr>
        <p:xfrm>
          <a:off x="319536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29" name="Диаграмма 9"/>
          <p:cNvGraphicFramePr/>
          <p:nvPr/>
        </p:nvGraphicFramePr>
        <p:xfrm>
          <a:off x="617940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30" name="Прямоугольник 10"/>
          <p:cNvSpPr/>
          <p:nvPr/>
        </p:nvSpPr>
        <p:spPr>
          <a:xfrm flipH="1" flipV="1">
            <a:off x="718920" y="4359960"/>
            <a:ext cx="287640" cy="249480"/>
          </a:xfrm>
          <a:prstGeom prst="rect">
            <a:avLst/>
          </a:prstGeom>
          <a:solidFill>
            <a:schemeClr val="accent1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007640" y="4344480"/>
            <a:ext cx="118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ог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3933360" y="4357080"/>
            <a:ext cx="132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налог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6804360" y="4218840"/>
            <a:ext cx="216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6"/>
          <p:cNvSpPr/>
          <p:nvPr/>
        </p:nvSpPr>
        <p:spPr>
          <a:xfrm flipH="1" flipV="1">
            <a:off x="6515640" y="4385520"/>
            <a:ext cx="287640" cy="249480"/>
          </a:xfrm>
          <a:prstGeom prst="rect">
            <a:avLst/>
          </a:prstGeom>
          <a:solidFill>
            <a:schemeClr val="accent3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Прямоугольник 17"/>
          <p:cNvSpPr/>
          <p:nvPr/>
        </p:nvSpPr>
        <p:spPr>
          <a:xfrm flipH="1" flipV="1">
            <a:off x="3635280" y="4385520"/>
            <a:ext cx="287640" cy="249480"/>
          </a:xfrm>
          <a:prstGeom prst="rect">
            <a:avLst/>
          </a:prstGeom>
          <a:solidFill>
            <a:schemeClr val="accent2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71964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490 873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9"/>
          <p:cNvSpPr/>
          <p:nvPr/>
        </p:nvSpPr>
        <p:spPr>
          <a:xfrm>
            <a:off x="651636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495 408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0"/>
          <p:cNvSpPr/>
          <p:nvPr/>
        </p:nvSpPr>
        <p:spPr>
          <a:xfrm>
            <a:off x="363600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491 185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5"/>
          <p:cNvSpPr/>
          <p:nvPr/>
        </p:nvSpPr>
        <p:spPr>
          <a:xfrm>
            <a:off x="0" y="188640"/>
            <a:ext cx="9143640" cy="8636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Варгашин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2021 год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2943000" y="1017000"/>
            <a:ext cx="3312000" cy="476280"/>
          </a:xfrm>
          <a:prstGeom prst="roundRect">
            <a:avLst>
              <a:gd name="adj" fmla="val 16667"/>
            </a:avLst>
          </a:prstGeom>
          <a:solidFill>
            <a:schemeClr val="accent3">
              <a:lumMod val="40000"/>
              <a:lumOff val="60000"/>
            </a:schemeClr>
          </a:solidFill>
          <a:ln w="9525">
            <a:solidFill>
              <a:srgbClr val="9bbb59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6"/>
          <p:cNvSpPr/>
          <p:nvPr/>
        </p:nvSpPr>
        <p:spPr>
          <a:xfrm>
            <a:off x="131040" y="1484640"/>
            <a:ext cx="3000240" cy="71964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7"/>
          <p:cNvSpPr/>
          <p:nvPr/>
        </p:nvSpPr>
        <p:spPr>
          <a:xfrm>
            <a:off x="6012000" y="1484640"/>
            <a:ext cx="3008160" cy="71964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еречисления от других бюджетов бюджетной системы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8"/>
          <p:cNvSpPr/>
          <p:nvPr/>
        </p:nvSpPr>
        <p:spPr>
          <a:xfrm>
            <a:off x="131040" y="234900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ог на доходы физических лиц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9 64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оказания платных услу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 20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диный налог на вмененный доход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прод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использования имущества – 2 38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е доход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53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0"/>
          <p:cNvSpPr/>
          <p:nvPr/>
        </p:nvSpPr>
        <p:spPr>
          <a:xfrm>
            <a:off x="6084000" y="2349000"/>
            <a:ext cx="2936160" cy="381600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СИДИИ 8 32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ВЕНЦИИ 157 494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ТАЦИИ на выравнивание бюджетной обесп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4 12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8 56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Диаграмма 12"/>
          <p:cNvGraphicFramePr/>
          <p:nvPr/>
        </p:nvGraphicFramePr>
        <p:xfrm>
          <a:off x="2967840" y="1412640"/>
          <a:ext cx="3195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8" name="Прямоугольник 1"/>
          <p:cNvSpPr/>
          <p:nvPr/>
        </p:nvSpPr>
        <p:spPr>
          <a:xfrm>
            <a:off x="3215520" y="5018040"/>
            <a:ext cx="215640" cy="215640"/>
          </a:xfrm>
          <a:prstGeom prst="rect">
            <a:avLst/>
          </a:prstGeom>
          <a:solidFill>
            <a:schemeClr val="accent1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Прямоугольник 14"/>
          <p:cNvSpPr/>
          <p:nvPr/>
        </p:nvSpPr>
        <p:spPr>
          <a:xfrm>
            <a:off x="3215520" y="5517360"/>
            <a:ext cx="215640" cy="215640"/>
          </a:xfrm>
          <a:prstGeom prst="rect">
            <a:avLst/>
          </a:prstGeom>
          <a:solidFill>
            <a:schemeClr val="accent2">
              <a:lumMod val="75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320280" y="4996080"/>
            <a:ext cx="2232000" cy="28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3399840" y="5481360"/>
            <a:ext cx="2828160" cy="28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ере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Таблица 1"/>
          <p:cNvGraphicFramePr/>
          <p:nvPr/>
        </p:nvGraphicFramePr>
        <p:xfrm>
          <a:off x="35640" y="944280"/>
          <a:ext cx="9072720" cy="5529600"/>
        </p:xfrm>
        <a:graphic>
          <a:graphicData uri="http://schemas.openxmlformats.org/drawingml/2006/table">
            <a:tbl>
              <a:tblPr/>
              <a:tblGrid>
                <a:gridCol w="432000"/>
                <a:gridCol w="5328360"/>
                <a:gridCol w="1080000"/>
                <a:gridCol w="1152000"/>
                <a:gridCol w="1080000"/>
              </a:tblGrid>
              <a:tr h="233640">
                <a:tc gridSpan="2"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и и сборы, установленные законодатель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Уровни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33640">
                <a:tc rowSpan="11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Феде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Акцизы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оходы от уплаты акцизов на нефте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, взимаемый на территориях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, взимаемый на территориях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9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и со специальными налоговыми режимами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51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единый сельскохозяйственный налог, взимаемый на территориях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51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единый сельскохозяйственный налог, взимаемый на территориях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Государственная пошлина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 зависимости от установленных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2"/>
          <p:cNvSpPr/>
          <p:nvPr/>
        </p:nvSpPr>
        <p:spPr>
          <a:xfrm>
            <a:off x="0" y="-99360"/>
            <a:ext cx="9143640" cy="998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мативы зачисления налогов по уровням бюдж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рритории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1"/>
          <p:cNvSpPr/>
          <p:nvPr/>
        </p:nvSpPr>
        <p:spPr>
          <a:xfrm>
            <a:off x="0" y="-1080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ы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5"/>
          <p:cNvSpPr/>
          <p:nvPr/>
        </p:nvSpPr>
        <p:spPr>
          <a:xfrm>
            <a:off x="654120" y="903600"/>
            <a:ext cx="784836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ДОХОДЫ –РАСХОДЫ = ДЕФИЦИТ/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сли расходы превышают доходы складывается дефиц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сли они меньше доходов –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Диаграмма 6"/>
          <p:cNvGraphicFramePr/>
          <p:nvPr/>
        </p:nvGraphicFramePr>
        <p:xfrm>
          <a:off x="539640" y="1917000"/>
          <a:ext cx="7963200" cy="39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  <Words>3594</Words>
  <Paragraphs>6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8T03:25:29Z</dcterms:created>
  <dc:creator>Ольга Викторовна Тихонова</dc:creator>
  <dc:description/>
  <dc:language>en-US</dc:language>
  <cp:lastModifiedBy>Сулимова</cp:lastModifiedBy>
  <dcterms:modified xsi:type="dcterms:W3CDTF">2021-04-08T08:09:30Z</dcterms:modified>
  <cp:revision>27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4</vt:r8>
  </property>
</Properties>
</file>